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DING.WAV" ContentType="audio/x-wav"/>
  <Override PartName="/ppt/media/image1.wmf" ContentType="image/x-wmf"/>
  <Override PartName="/ppt/media/whoosh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828440" y="422712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42052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19904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6928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82844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19904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6928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42052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2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22.xml"/><Relationship Id="rId7" Type="http://schemas.openxmlformats.org/officeDocument/2006/relationships/slide" Target="slide24.xml"/><Relationship Id="rId8" Type="http://schemas.openxmlformats.org/officeDocument/2006/relationships/slide" Target="slide26.xml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752480" cy="6858000"/>
            <a:chOff x="0" y="0"/>
            <a:chExt cx="175248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752480" cy="68580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 txBox="1"/>
            <p:nvPr/>
          </p:nvSpPr>
          <p:spPr>
            <a:xfrm>
              <a:off x="376200" y="422280"/>
              <a:ext cx="965160" cy="9493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 Black"/>
                </a:rPr>
                <a:t>CHAPTE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 Black"/>
                </a:rPr>
                <a:t>13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360" y="5967360"/>
              <a:ext cx="155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8920" y="5030640"/>
              <a:ext cx="155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4668840" y="4441680"/>
            <a:ext cx="4343400" cy="2362320"/>
            <a:chOff x="4668840" y="4441680"/>
            <a:chExt cx="4343400" cy="2362320"/>
          </a:xfrm>
        </p:grpSpPr>
        <p:sp>
          <p:nvSpPr>
            <p:cNvPr id="6" name=""/>
            <p:cNvSpPr/>
            <p:nvPr/>
          </p:nvSpPr>
          <p:spPr>
            <a:xfrm>
              <a:off x="4668840" y="6705720"/>
              <a:ext cx="4343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915400" y="4441680"/>
              <a:ext cx="0" cy="236232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82520" y="6442200"/>
            <a:ext cx="14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13 - </a:t>
            </a:r>
            <a:fld id="{3025C25A-769C-4F98-8AA8-029C06D2A30F}" type="slidenum"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740240" y="6588000"/>
            <a:ext cx="241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Copyright McGraw-Hill/Irwin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1211400"/>
            <a:ext cx="1731960" cy="25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Functions of Mon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What Backs the Money Sup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Demand for Mon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The Money 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The Federal Reserve &amp; the Banking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FED Functions &amp; the Money Sup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Key 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>
            <a:hlinkClick r:id="" action="ppaction://hlinkshowjump?jump=endshow"/>
          </p:cNvPr>
          <p:cNvSpPr/>
          <p:nvPr/>
        </p:nvSpPr>
        <p:spPr>
          <a:xfrm>
            <a:off x="1020600" y="6051600"/>
            <a:ext cx="609840" cy="328680"/>
          </a:xfrm>
          <a:custGeom>
            <a:avLst/>
            <a:gdLst>
              <a:gd name="textAreaLeft" fmla="*/ 21240 w 609840"/>
              <a:gd name="textAreaRight" fmla="*/ 588600 w 609840"/>
              <a:gd name="textAreaTop" fmla="*/ 21240 h 328680"/>
              <a:gd name="textAreaBottom" fmla="*/ 307440 h 328680"/>
            </a:gdLst>
            <a:ahLst/>
            <a:rect l="textAreaLeft" t="textAreaTop" r="textAreaRight" b="textAreaBottom"/>
            <a:pathLst>
              <a:path w="40057" h="21600">
                <a:moveTo>
                  <a:pt x="0" y="0"/>
                </a:moveTo>
                <a:lnTo>
                  <a:pt x="40057" y="0"/>
                </a:lnTo>
                <a:lnTo>
                  <a:pt x="40057" y="21600"/>
                </a:lnTo>
                <a:lnTo>
                  <a:pt x="0" y="21600"/>
                </a:lnTo>
                <a:close/>
              </a:path>
              <a:path fill="lightenLess" w="40057" h="21600">
                <a:moveTo>
                  <a:pt x="0" y="0"/>
                </a:moveTo>
                <a:lnTo>
                  <a:pt x="40057" y="0"/>
                </a:lnTo>
                <a:lnTo>
                  <a:pt x="38657" y="1400"/>
                </a:lnTo>
                <a:lnTo>
                  <a:pt x="1400" y="1400"/>
                </a:lnTo>
                <a:close/>
              </a:path>
              <a:path fill="darken" w="40057" h="21600">
                <a:moveTo>
                  <a:pt x="40057" y="0"/>
                </a:moveTo>
                <a:lnTo>
                  <a:pt x="40057" y="21600"/>
                </a:lnTo>
                <a:lnTo>
                  <a:pt x="38657" y="20200"/>
                </a:lnTo>
                <a:lnTo>
                  <a:pt x="38657" y="1400"/>
                </a:lnTo>
                <a:close/>
              </a:path>
              <a:path fill="darkenLess" w="40057" h="21600">
                <a:moveTo>
                  <a:pt x="400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57" y="20200"/>
                </a:lnTo>
                <a:close/>
              </a:path>
              <a:path fill="lighten" w="400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57" h="21600">
                <a:moveTo>
                  <a:pt x="23527" y="10800"/>
                </a:moveTo>
                <a:lnTo>
                  <a:pt x="13022" y="17806"/>
                </a:lnTo>
                <a:lnTo>
                  <a:pt x="13022" y="3794"/>
                </a:lnTo>
                <a:close/>
              </a:path>
              <a:path fill="darken" w="40057" h="21600">
                <a:moveTo>
                  <a:pt x="25373" y="3794"/>
                </a:moveTo>
                <a:lnTo>
                  <a:pt x="25373" y="17806"/>
                </a:lnTo>
                <a:lnTo>
                  <a:pt x="27035" y="17806"/>
                </a:lnTo>
                <a:lnTo>
                  <a:pt x="27035" y="3794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>
            <a:hlinkClick r:id="" action="ppaction://hlinkshowjump?jump=previousslide"/>
          </p:cNvPr>
          <p:cNvSpPr/>
          <p:nvPr/>
        </p:nvSpPr>
        <p:spPr>
          <a:xfrm>
            <a:off x="55440" y="5432400"/>
            <a:ext cx="89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Previ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Sl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>
            <a:hlinkClick r:id="" action="ppaction://hlinkshowjump?jump=nextslide"/>
          </p:cNvPr>
          <p:cNvSpPr/>
          <p:nvPr/>
        </p:nvSpPr>
        <p:spPr>
          <a:xfrm>
            <a:off x="974880" y="5429160"/>
            <a:ext cx="70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Sl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 flipH="1">
            <a:off x="176040" y="5137200"/>
            <a:ext cx="609840" cy="317520"/>
          </a:xfrm>
          <a:custGeom>
            <a:avLst/>
            <a:gdLst>
              <a:gd name="textAreaLeft" fmla="*/ 20520 w 609840"/>
              <a:gd name="textAreaRight" fmla="*/ 589320 w 60984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41463" h="21600">
                <a:moveTo>
                  <a:pt x="0" y="0"/>
                </a:moveTo>
                <a:lnTo>
                  <a:pt x="41463" y="0"/>
                </a:lnTo>
                <a:lnTo>
                  <a:pt x="41463" y="21600"/>
                </a:lnTo>
                <a:lnTo>
                  <a:pt x="0" y="21600"/>
                </a:lnTo>
                <a:close/>
              </a:path>
              <a:path fill="lightenLess" w="41463" h="21600">
                <a:moveTo>
                  <a:pt x="0" y="0"/>
                </a:moveTo>
                <a:lnTo>
                  <a:pt x="41463" y="0"/>
                </a:lnTo>
                <a:lnTo>
                  <a:pt x="40063" y="1400"/>
                </a:lnTo>
                <a:lnTo>
                  <a:pt x="1400" y="1400"/>
                </a:lnTo>
                <a:close/>
              </a:path>
              <a:path fill="darken" w="41463" h="21600">
                <a:moveTo>
                  <a:pt x="41463" y="0"/>
                </a:moveTo>
                <a:lnTo>
                  <a:pt x="41463" y="21600"/>
                </a:lnTo>
                <a:lnTo>
                  <a:pt x="40063" y="20200"/>
                </a:lnTo>
                <a:lnTo>
                  <a:pt x="40063" y="1400"/>
                </a:lnTo>
                <a:close/>
              </a:path>
              <a:path fill="darkenLess" w="41463" h="21600">
                <a:moveTo>
                  <a:pt x="414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063" y="20200"/>
                </a:lnTo>
                <a:close/>
              </a:path>
              <a:path fill="lighten" w="414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463" h="21600">
                <a:moveTo>
                  <a:pt x="13725" y="3794"/>
                </a:moveTo>
                <a:lnTo>
                  <a:pt x="27738" y="10800"/>
                </a:lnTo>
                <a:lnTo>
                  <a:pt x="13725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23840" y="5140440"/>
            <a:ext cx="609840" cy="317520"/>
          </a:xfrm>
          <a:custGeom>
            <a:avLst/>
            <a:gdLst>
              <a:gd name="textAreaLeft" fmla="*/ 20520 w 609840"/>
              <a:gd name="textAreaRight" fmla="*/ 589320 w 60984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41463" h="21600">
                <a:moveTo>
                  <a:pt x="0" y="0"/>
                </a:moveTo>
                <a:lnTo>
                  <a:pt x="41463" y="0"/>
                </a:lnTo>
                <a:lnTo>
                  <a:pt x="41463" y="21600"/>
                </a:lnTo>
                <a:lnTo>
                  <a:pt x="0" y="21600"/>
                </a:lnTo>
                <a:close/>
              </a:path>
              <a:path fill="lightenLess" w="41463" h="21600">
                <a:moveTo>
                  <a:pt x="0" y="0"/>
                </a:moveTo>
                <a:lnTo>
                  <a:pt x="41463" y="0"/>
                </a:lnTo>
                <a:lnTo>
                  <a:pt x="40063" y="1400"/>
                </a:lnTo>
                <a:lnTo>
                  <a:pt x="1400" y="1400"/>
                </a:lnTo>
                <a:close/>
              </a:path>
              <a:path fill="darken" w="41463" h="21600">
                <a:moveTo>
                  <a:pt x="41463" y="0"/>
                </a:moveTo>
                <a:lnTo>
                  <a:pt x="41463" y="21600"/>
                </a:lnTo>
                <a:lnTo>
                  <a:pt x="40063" y="20200"/>
                </a:lnTo>
                <a:lnTo>
                  <a:pt x="40063" y="1400"/>
                </a:lnTo>
                <a:close/>
              </a:path>
              <a:path fill="darkenLess" w="41463" h="21600">
                <a:moveTo>
                  <a:pt x="414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063" y="20200"/>
                </a:lnTo>
                <a:close/>
              </a:path>
              <a:path fill="lighten" w="414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463" h="21600">
                <a:moveTo>
                  <a:pt x="13725" y="3794"/>
                </a:moveTo>
                <a:lnTo>
                  <a:pt x="27738" y="10800"/>
                </a:lnTo>
                <a:lnTo>
                  <a:pt x="13725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>
            <a:hlinkClick r:id="" action="ppaction://hlinkshowjump?jump=endshow"/>
          </p:cNvPr>
          <p:cNvSpPr/>
          <p:nvPr/>
        </p:nvSpPr>
        <p:spPr>
          <a:xfrm>
            <a:off x="160200" y="5992920"/>
            <a:ext cx="68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Sh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DING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4.xml"/><Relationship Id="rId14" Type="http://schemas.openxmlformats.org/officeDocument/2006/relationships/slide" Target="slide4.xml"/><Relationship Id="rId15" Type="http://schemas.openxmlformats.org/officeDocument/2006/relationships/slide" Target="slide10.xml"/><Relationship Id="rId16" Type="http://schemas.openxmlformats.org/officeDocument/2006/relationships/slide" Target="slide12.xml"/><Relationship Id="rId17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773360" y="52560"/>
            <a:ext cx="3367800" cy="2713680"/>
            <a:chOff x="1773360" y="52560"/>
            <a:chExt cx="3367800" cy="2713680"/>
          </a:xfrm>
        </p:grpSpPr>
        <p:sp>
          <p:nvSpPr>
            <p:cNvPr id="56" name=""/>
            <p:cNvSpPr/>
            <p:nvPr/>
          </p:nvSpPr>
          <p:spPr>
            <a:xfrm>
              <a:off x="2248560" y="52560"/>
              <a:ext cx="2370600" cy="27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200" spc="-1" strike="noStrike">
                  <a:solidFill>
                    <a:srgbClr val="000099"/>
                  </a:solidFill>
                  <a:latin typeface="Times New Roman"/>
                </a:rPr>
                <a:t>13</a:t>
              </a:r>
              <a:endParaRPr b="0" lang="en-US" sz="1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692800" y="1292400"/>
              <a:ext cx="2448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 H A P T E 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3360" y="1722600"/>
              <a:ext cx="33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2840" y="3308400"/>
            <a:ext cx="6345360" cy="16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cc0000"/>
                </a:solidFill>
                <a:latin typeface="Times New Roman"/>
              </a:rPr>
              <a:t>Money and Banking</a:t>
            </a:r>
            <a:endParaRPr b="0" lang="en-US" sz="8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729080" y="93600"/>
            <a:ext cx="748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WHAT BACKS THE MONEY SU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44720" y="592200"/>
            <a:ext cx="6994440" cy="59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cc0000"/>
                </a:solidFill>
                <a:latin typeface="Times New Roman"/>
              </a:rPr>
              <a:t>Money as Deb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cc0000"/>
                </a:solidFill>
                <a:latin typeface="Times New Roman"/>
              </a:rPr>
              <a:t>Value of Mone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4300" spc="-1" strike="noStrike">
                <a:solidFill>
                  <a:srgbClr val="cc0000"/>
                </a:solidFill>
                <a:latin typeface="Times New Roman"/>
              </a:rPr>
              <a:t>Acceptabilit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4300" spc="-1" strike="noStrike">
                <a:solidFill>
                  <a:srgbClr val="cc0000"/>
                </a:solidFill>
                <a:latin typeface="Times New Roman"/>
              </a:rPr>
              <a:t>Legal Tender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4300" spc="-1" strike="noStrike">
                <a:solidFill>
                  <a:srgbClr val="cc0000"/>
                </a:solidFill>
                <a:latin typeface="Times New Roman"/>
              </a:rPr>
              <a:t>Relative Scarcit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cc0000"/>
                </a:solidFill>
                <a:latin typeface="Times New Roman"/>
              </a:rPr>
              <a:t>Money and Pric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4300" spc="-1" strike="noStrike">
                <a:solidFill>
                  <a:srgbClr val="cc0000"/>
                </a:solidFill>
                <a:latin typeface="Times New Roman"/>
              </a:rPr>
              <a:t>Purchasing Power of </a:t>
            </a:r>
            <a:r>
              <a:rPr b="1" lang="en-US" sz="43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4300" spc="-1" strike="noStrike">
                <a:solidFill>
                  <a:srgbClr val="cc0000"/>
                </a:solidFill>
                <a:latin typeface="Times New Roman"/>
              </a:rPr>
              <a:t>Mone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4300" spc="-1" strike="noStrike">
                <a:solidFill>
                  <a:srgbClr val="cc0000"/>
                </a:solidFill>
                <a:latin typeface="Times New Roman"/>
              </a:rPr>
              <a:t>D = 1/Price Leve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cc0000"/>
                </a:solidFill>
                <a:latin typeface="Times New Roman"/>
              </a:rPr>
              <a:t>Inflation and Acceptabilit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729080" y="93600"/>
            <a:ext cx="748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WHAT BACKS THE MONEY SU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44720" y="498600"/>
            <a:ext cx="654516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700" spc="-1" strike="noStrike">
                <a:solidFill>
                  <a:srgbClr val="cc0000"/>
                </a:solidFill>
                <a:latin typeface="Times New Roman"/>
              </a:rPr>
              <a:t>So, What Backs the Money Supply?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12040" y="2300400"/>
            <a:ext cx="45644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Times New Roman"/>
              </a:rPr>
              <a:t>Stable Valu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67920" y="3016080"/>
            <a:ext cx="37292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rush Script MT"/>
              </a:rPr>
              <a:t>through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01800" y="3767040"/>
            <a:ext cx="701028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38040" indent="-338040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0000"/>
                </a:solidFill>
                <a:latin typeface="Times New Roman"/>
              </a:rPr>
              <a:t>Appropriate Fiscal Policy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0000"/>
                </a:solidFill>
                <a:latin typeface="Times New Roman"/>
              </a:rPr>
              <a:t>Intelligent Management of the Money Supply – Monetary Policy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801800" y="100080"/>
            <a:ext cx="72788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Times New Roman"/>
              </a:rPr>
              <a:t>THE DEMAND FOR MONE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835200"/>
            <a:ext cx="678492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Transactions Demand, D</a:t>
            </a:r>
            <a:r>
              <a:rPr b="1" lang="en-US" sz="4800" spc="-1" strike="noStrike" baseline="-25000">
                <a:solidFill>
                  <a:srgbClr val="cc0000"/>
                </a:solidFill>
                <a:latin typeface="Times New Roman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5160" y="1549440"/>
            <a:ext cx="685476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varies directly with nominal GD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8360" y="2863800"/>
            <a:ext cx="484632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Asset Demand, D</a:t>
            </a:r>
            <a:r>
              <a:rPr b="1" lang="en-US" sz="48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35160" y="3735360"/>
            <a:ext cx="6816600" cy="20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varies inversely with the interest r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Liquidity P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71200" y="5603760"/>
            <a:ext cx="483264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Brush Script MT"/>
              </a:rPr>
              <a:t>illustrated..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115480" y="5343480"/>
            <a:ext cx="298440" cy="2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740040" y="982800"/>
            <a:ext cx="615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59920" y="1135080"/>
            <a:ext cx="176652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and,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765440" y="2316960"/>
            <a:ext cx="2453040" cy="3205440"/>
            <a:chOff x="1765440" y="2316960"/>
            <a:chExt cx="2453040" cy="3205440"/>
          </a:xfrm>
        </p:grpSpPr>
        <p:sp>
          <p:nvSpPr>
            <p:cNvPr id="134" name=""/>
            <p:cNvSpPr/>
            <p:nvPr/>
          </p:nvSpPr>
          <p:spPr>
            <a:xfrm>
              <a:off x="2652840" y="2487600"/>
              <a:ext cx="0" cy="198756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228760" y="2438280"/>
              <a:ext cx="1844640" cy="2081160"/>
              <a:chOff x="2228760" y="2438280"/>
              <a:chExt cx="1844640" cy="2081160"/>
            </a:xfrm>
          </p:grpSpPr>
          <p:sp>
            <p:nvSpPr>
              <p:cNvPr id="136" name=""/>
              <p:cNvSpPr/>
              <p:nvPr/>
            </p:nvSpPr>
            <p:spPr>
              <a:xfrm>
                <a:off x="2251080" y="2438280"/>
                <a:ext cx="0" cy="2081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228760" y="4500720"/>
                <a:ext cx="18446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 rot="16200000">
              <a:off x="843480" y="3238920"/>
              <a:ext cx="21153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te of interest, i (percen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56760" y="4794120"/>
              <a:ext cx="180468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mount of mon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manded (bill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f dollar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27360" y="4043520"/>
              <a:ext cx="4143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26720" y="2416320"/>
              <a:ext cx="372240" cy="22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41480" y="4551480"/>
              <a:ext cx="2277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   50   100   150   200   250  300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801800" y="100080"/>
            <a:ext cx="72788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Times New Roman"/>
              </a:rPr>
              <a:t>THE DEMAND FOR MONE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740040" y="982800"/>
            <a:ext cx="615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891040" y="982800"/>
            <a:ext cx="615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59920" y="1135080"/>
            <a:ext cx="176652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and,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66080" y="1135080"/>
            <a:ext cx="159264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and,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65440" y="2316960"/>
            <a:ext cx="2453040" cy="3205440"/>
            <a:chOff x="1765440" y="2316960"/>
            <a:chExt cx="2453040" cy="3205440"/>
          </a:xfrm>
        </p:grpSpPr>
        <p:sp>
          <p:nvSpPr>
            <p:cNvPr id="149" name=""/>
            <p:cNvSpPr/>
            <p:nvPr/>
          </p:nvSpPr>
          <p:spPr>
            <a:xfrm>
              <a:off x="2652840" y="2487600"/>
              <a:ext cx="0" cy="198756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2228760" y="2438280"/>
              <a:ext cx="1844640" cy="2081160"/>
              <a:chOff x="2228760" y="2438280"/>
              <a:chExt cx="1844640" cy="2081160"/>
            </a:xfrm>
          </p:grpSpPr>
          <p:sp>
            <p:nvSpPr>
              <p:cNvPr id="151" name=""/>
              <p:cNvSpPr/>
              <p:nvPr/>
            </p:nvSpPr>
            <p:spPr>
              <a:xfrm>
                <a:off x="2251080" y="2438280"/>
                <a:ext cx="0" cy="2081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228760" y="4500720"/>
                <a:ext cx="18446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 rot="16200000">
              <a:off x="843480" y="3238920"/>
              <a:ext cx="21153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te of interest, i (percen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56760" y="4794120"/>
              <a:ext cx="180468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mount of mon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manded (bill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f dollar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27360" y="4043520"/>
              <a:ext cx="4143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26720" y="2416320"/>
              <a:ext cx="372240" cy="22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41480" y="4551480"/>
              <a:ext cx="2277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   50   100   150   200   250  300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801800" y="100080"/>
            <a:ext cx="72788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Times New Roman"/>
              </a:rPr>
              <a:t>THE DEMAND FOR MONE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062240" y="2316960"/>
            <a:ext cx="2630880" cy="3205440"/>
            <a:chOff x="4062240" y="2316960"/>
            <a:chExt cx="2630880" cy="3205440"/>
          </a:xfrm>
        </p:grpSpPr>
        <p:sp>
          <p:nvSpPr>
            <p:cNvPr id="160" name=""/>
            <p:cNvSpPr/>
            <p:nvPr/>
          </p:nvSpPr>
          <p:spPr>
            <a:xfrm>
              <a:off x="4554360" y="2544840"/>
              <a:ext cx="1178280" cy="193824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6200000">
              <a:off x="3140280" y="3238920"/>
              <a:ext cx="21153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te of interest, i (percen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66600" y="4794120"/>
              <a:ext cx="180468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mount of mon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manded (bill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f dollar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39720" y="2416320"/>
              <a:ext cx="372240" cy="22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56680" y="4079880"/>
              <a:ext cx="4402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16120" y="4551480"/>
              <a:ext cx="2277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   50   100   150   200   250  300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4540320" y="2438280"/>
              <a:ext cx="1844640" cy="2081160"/>
              <a:chOff x="4540320" y="2438280"/>
              <a:chExt cx="1844640" cy="2081160"/>
            </a:xfrm>
          </p:grpSpPr>
          <p:sp>
            <p:nvSpPr>
              <p:cNvPr id="167" name=""/>
              <p:cNvSpPr/>
              <p:nvPr/>
            </p:nvSpPr>
            <p:spPr>
              <a:xfrm>
                <a:off x="4562640" y="2438280"/>
                <a:ext cx="0" cy="2081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540320" y="4500720"/>
                <a:ext cx="18446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740040" y="982800"/>
            <a:ext cx="615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891040" y="982800"/>
            <a:ext cx="615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59920" y="1135080"/>
            <a:ext cx="176652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and,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66080" y="1135080"/>
            <a:ext cx="159264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and,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92040" y="1135080"/>
            <a:ext cx="186696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de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money,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16120" y="4551480"/>
            <a:ext cx="2277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   50   100   150   200   250  30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765440" y="2316960"/>
            <a:ext cx="2453040" cy="3205440"/>
            <a:chOff x="1765440" y="2316960"/>
            <a:chExt cx="2453040" cy="3205440"/>
          </a:xfrm>
        </p:grpSpPr>
        <p:sp>
          <p:nvSpPr>
            <p:cNvPr id="176" name=""/>
            <p:cNvSpPr/>
            <p:nvPr/>
          </p:nvSpPr>
          <p:spPr>
            <a:xfrm>
              <a:off x="2652840" y="2487600"/>
              <a:ext cx="0" cy="198756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2228760" y="2438280"/>
              <a:ext cx="1844640" cy="2081160"/>
              <a:chOff x="2228760" y="2438280"/>
              <a:chExt cx="1844640" cy="2081160"/>
            </a:xfrm>
          </p:grpSpPr>
          <p:sp>
            <p:nvSpPr>
              <p:cNvPr id="178" name=""/>
              <p:cNvSpPr/>
              <p:nvPr/>
            </p:nvSpPr>
            <p:spPr>
              <a:xfrm>
                <a:off x="2251080" y="2438280"/>
                <a:ext cx="0" cy="2081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228760" y="4500720"/>
                <a:ext cx="18446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 rot="16200000">
              <a:off x="843480" y="3238920"/>
              <a:ext cx="21153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te of interest, i (percen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156760" y="4794120"/>
              <a:ext cx="180468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mount of mon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manded (bill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f dollar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27360" y="4043520"/>
              <a:ext cx="4143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26720" y="2416320"/>
              <a:ext cx="372240" cy="22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1480" y="4551480"/>
              <a:ext cx="2277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   50   100   150   200   250  300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801800" y="100080"/>
            <a:ext cx="72788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Times New Roman"/>
              </a:rPr>
              <a:t>THE DEMAND FOR MONE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062240" y="2316960"/>
            <a:ext cx="2322720" cy="3205440"/>
            <a:chOff x="4062240" y="2316960"/>
            <a:chExt cx="2322720" cy="3205440"/>
          </a:xfrm>
        </p:grpSpPr>
        <p:sp>
          <p:nvSpPr>
            <p:cNvPr id="187" name=""/>
            <p:cNvSpPr/>
            <p:nvPr/>
          </p:nvSpPr>
          <p:spPr>
            <a:xfrm>
              <a:off x="4554360" y="2544840"/>
              <a:ext cx="1178280" cy="193824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6200000">
              <a:off x="3140280" y="3238920"/>
              <a:ext cx="21153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te of interest, i (percen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566600" y="4794120"/>
              <a:ext cx="180468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mount of mon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manded (bill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f dollar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39720" y="2416320"/>
              <a:ext cx="372240" cy="22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56680" y="4079880"/>
              <a:ext cx="4402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4540320" y="2438280"/>
              <a:ext cx="1844640" cy="2081160"/>
              <a:chOff x="4540320" y="2438280"/>
              <a:chExt cx="1844640" cy="2081160"/>
            </a:xfrm>
          </p:grpSpPr>
          <p:sp>
            <p:nvSpPr>
              <p:cNvPr id="193" name=""/>
              <p:cNvSpPr/>
              <p:nvPr/>
            </p:nvSpPr>
            <p:spPr>
              <a:xfrm>
                <a:off x="4562640" y="2438280"/>
                <a:ext cx="0" cy="2081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540320" y="4500720"/>
                <a:ext cx="18446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5" name=""/>
          <p:cNvGrpSpPr/>
          <p:nvPr/>
        </p:nvGrpSpPr>
        <p:grpSpPr>
          <a:xfrm>
            <a:off x="6407280" y="2316960"/>
            <a:ext cx="2619720" cy="3205440"/>
            <a:chOff x="6407280" y="2316960"/>
            <a:chExt cx="2619720" cy="3205440"/>
          </a:xfrm>
        </p:grpSpPr>
        <p:sp>
          <p:nvSpPr>
            <p:cNvPr id="196" name=""/>
            <p:cNvSpPr/>
            <p:nvPr/>
          </p:nvSpPr>
          <p:spPr>
            <a:xfrm>
              <a:off x="7361280" y="2544840"/>
              <a:ext cx="1326960" cy="196524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200000">
              <a:off x="5485320" y="3238920"/>
              <a:ext cx="21153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te of interest, i (percen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01920" y="4794120"/>
              <a:ext cx="180468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mount of mon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manded (bill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f dollar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50000" y="4551480"/>
              <a:ext cx="2277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   50   100   150   200   250  300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590880" y="2416320"/>
              <a:ext cx="372240" cy="22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475480" y="3902040"/>
              <a:ext cx="48924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6889680" y="2438280"/>
              <a:ext cx="1844640" cy="2081160"/>
              <a:chOff x="6889680" y="2438280"/>
              <a:chExt cx="1844640" cy="2081160"/>
            </a:xfrm>
          </p:grpSpPr>
          <p:sp>
            <p:nvSpPr>
              <p:cNvPr id="203" name=""/>
              <p:cNvSpPr/>
              <p:nvPr/>
            </p:nvSpPr>
            <p:spPr>
              <a:xfrm>
                <a:off x="6912000" y="2438280"/>
                <a:ext cx="0" cy="2081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889680" y="4500720"/>
                <a:ext cx="18446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740040" y="982800"/>
            <a:ext cx="615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91040" y="982800"/>
            <a:ext cx="615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059920" y="1135080"/>
            <a:ext cx="176652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and,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66080" y="1135080"/>
            <a:ext cx="159264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and,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92040" y="1135080"/>
            <a:ext cx="186696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de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money,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16120" y="4551480"/>
            <a:ext cx="2277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   50   100   150   200   250  30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765440" y="2316960"/>
            <a:ext cx="2453040" cy="3205440"/>
            <a:chOff x="1765440" y="2316960"/>
            <a:chExt cx="2453040" cy="3205440"/>
          </a:xfrm>
        </p:grpSpPr>
        <p:sp>
          <p:nvSpPr>
            <p:cNvPr id="212" name=""/>
            <p:cNvSpPr/>
            <p:nvPr/>
          </p:nvSpPr>
          <p:spPr>
            <a:xfrm>
              <a:off x="2652840" y="2487600"/>
              <a:ext cx="0" cy="198756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2228760" y="2438280"/>
              <a:ext cx="1844640" cy="2081160"/>
              <a:chOff x="2228760" y="2438280"/>
              <a:chExt cx="1844640" cy="2081160"/>
            </a:xfrm>
          </p:grpSpPr>
          <p:sp>
            <p:nvSpPr>
              <p:cNvPr id="214" name=""/>
              <p:cNvSpPr/>
              <p:nvPr/>
            </p:nvSpPr>
            <p:spPr>
              <a:xfrm>
                <a:off x="2251080" y="2438280"/>
                <a:ext cx="0" cy="2081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228760" y="4500720"/>
                <a:ext cx="18446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 rot="16200000">
              <a:off x="843480" y="3238920"/>
              <a:ext cx="21153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te of interest, i (percen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56760" y="4794120"/>
              <a:ext cx="180468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mount of mon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manded (bill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f dollar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727360" y="4043520"/>
              <a:ext cx="4143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26720" y="2416320"/>
              <a:ext cx="372240" cy="22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41480" y="4551480"/>
              <a:ext cx="2277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   50   100   150   200   250  300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1801800" y="100080"/>
            <a:ext cx="72788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Times New Roman"/>
              </a:rPr>
              <a:t>THE DEMAND FOR MONE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062240" y="2316960"/>
            <a:ext cx="2322720" cy="3205440"/>
            <a:chOff x="4062240" y="2316960"/>
            <a:chExt cx="2322720" cy="3205440"/>
          </a:xfrm>
        </p:grpSpPr>
        <p:sp>
          <p:nvSpPr>
            <p:cNvPr id="223" name=""/>
            <p:cNvSpPr/>
            <p:nvPr/>
          </p:nvSpPr>
          <p:spPr>
            <a:xfrm>
              <a:off x="4554360" y="2544840"/>
              <a:ext cx="1178280" cy="193824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16200000">
              <a:off x="3140280" y="3238920"/>
              <a:ext cx="21153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te of interest, i (percen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566600" y="4794120"/>
              <a:ext cx="180468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mount of mon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manded (bill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f dollar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39720" y="2416320"/>
              <a:ext cx="372240" cy="22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56680" y="4079880"/>
              <a:ext cx="4402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4540320" y="2438280"/>
              <a:ext cx="1844640" cy="2081160"/>
              <a:chOff x="4540320" y="2438280"/>
              <a:chExt cx="1844640" cy="2081160"/>
            </a:xfrm>
          </p:grpSpPr>
          <p:sp>
            <p:nvSpPr>
              <p:cNvPr id="229" name=""/>
              <p:cNvSpPr/>
              <p:nvPr/>
            </p:nvSpPr>
            <p:spPr>
              <a:xfrm>
                <a:off x="4562640" y="2438280"/>
                <a:ext cx="0" cy="2081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540320" y="4500720"/>
                <a:ext cx="18446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"/>
          <p:cNvSpPr/>
          <p:nvPr/>
        </p:nvSpPr>
        <p:spPr>
          <a:xfrm rot="16200000">
            <a:off x="5485320" y="3238920"/>
            <a:ext cx="2115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te of interest, i (perc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901920" y="4794120"/>
            <a:ext cx="18046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mount of mon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manded (bill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 dolla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750000" y="4551480"/>
            <a:ext cx="2277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   50   100   150   200   250  30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90880" y="2416320"/>
            <a:ext cx="372240" cy="22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6889680" y="2438280"/>
            <a:ext cx="1844640" cy="2081160"/>
            <a:chOff x="6889680" y="2438280"/>
            <a:chExt cx="1844640" cy="2081160"/>
          </a:xfrm>
        </p:grpSpPr>
        <p:sp>
          <p:nvSpPr>
            <p:cNvPr id="236" name=""/>
            <p:cNvSpPr/>
            <p:nvPr/>
          </p:nvSpPr>
          <p:spPr>
            <a:xfrm>
              <a:off x="6912000" y="2438280"/>
              <a:ext cx="0" cy="2081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89680" y="4500720"/>
              <a:ext cx="1844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 flipH="1">
            <a:off x="6940440" y="360504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66160" y="2482920"/>
            <a:ext cx="0" cy="199368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150760" y="2287440"/>
            <a:ext cx="4467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53320" y="5516640"/>
            <a:ext cx="23425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Equilibr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Interest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6216480" y="3612960"/>
            <a:ext cx="1784520" cy="197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157240" y="3193920"/>
            <a:ext cx="344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6407280" y="2316960"/>
            <a:ext cx="2619720" cy="3205440"/>
            <a:chOff x="6407280" y="2316960"/>
            <a:chExt cx="2619720" cy="3205440"/>
          </a:xfrm>
        </p:grpSpPr>
        <p:sp>
          <p:nvSpPr>
            <p:cNvPr id="245" name=""/>
            <p:cNvSpPr/>
            <p:nvPr/>
          </p:nvSpPr>
          <p:spPr>
            <a:xfrm>
              <a:off x="7361280" y="2544840"/>
              <a:ext cx="1326960" cy="196524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6200000">
              <a:off x="5485320" y="3238920"/>
              <a:ext cx="21153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te of interest, i (percen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01920" y="4794120"/>
              <a:ext cx="180468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mount of mon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manded (bill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f dollar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50000" y="4551480"/>
              <a:ext cx="2277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   50   100   150   200   250  300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90880" y="2416320"/>
              <a:ext cx="372240" cy="22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475480" y="3902040"/>
              <a:ext cx="48924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6889680" y="2438280"/>
              <a:ext cx="1844640" cy="2081160"/>
              <a:chOff x="6889680" y="2438280"/>
              <a:chExt cx="1844640" cy="2081160"/>
            </a:xfrm>
          </p:grpSpPr>
          <p:sp>
            <p:nvSpPr>
              <p:cNvPr id="252" name=""/>
              <p:cNvSpPr/>
              <p:nvPr/>
            </p:nvSpPr>
            <p:spPr>
              <a:xfrm>
                <a:off x="6912000" y="2438280"/>
                <a:ext cx="0" cy="2081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889680" y="4500720"/>
                <a:ext cx="18446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4" name=""/>
          <p:cNvGrpSpPr/>
          <p:nvPr/>
        </p:nvGrpSpPr>
        <p:grpSpPr>
          <a:xfrm>
            <a:off x="1765440" y="1273320"/>
            <a:ext cx="6367320" cy="3774960"/>
            <a:chOff x="1765440" y="1273320"/>
            <a:chExt cx="6367320" cy="3774960"/>
          </a:xfrm>
        </p:grpSpPr>
        <p:sp>
          <p:nvSpPr>
            <p:cNvPr id="255" name=""/>
            <p:cNvSpPr/>
            <p:nvPr/>
          </p:nvSpPr>
          <p:spPr>
            <a:xfrm>
              <a:off x="1765440" y="1273320"/>
              <a:ext cx="6367320" cy="3774960"/>
            </a:xfrm>
            <a:custGeom>
              <a:avLst/>
              <a:gdLst>
                <a:gd name="textAreaLeft" fmla="*/ 1453320 w 6367320"/>
                <a:gd name="textAreaRight" fmla="*/ 4914000 w 6367320"/>
                <a:gd name="textAreaTop" fmla="*/ 861840 h 3774960"/>
                <a:gd name="textAreaBottom" fmla="*/ 2913120 h 377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903760" y="1779480"/>
              <a:ext cx="4092120" cy="25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00"/>
                  </a:solidFill>
                  <a:latin typeface="Arial"/>
                </a:rPr>
                <a:t>ADD TH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00"/>
                  </a:solidFill>
                  <a:latin typeface="Arial"/>
                </a:rPr>
                <a:t>MONEY SUPPL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00"/>
                  </a:solidFill>
                  <a:latin typeface="Arial"/>
                </a:rPr>
                <a:t>TO FIND TH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00"/>
                  </a:solidFill>
                  <a:latin typeface="Arial"/>
                </a:rPr>
                <a:t>EQUILIBRIUM RAT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00"/>
                  </a:solidFill>
                  <a:latin typeface="Arial"/>
                </a:rPr>
                <a:t>OF INTERES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7791480" y="591660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5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 flipH="1">
            <a:off x="3232080" y="3583080"/>
            <a:ext cx="22161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368960" y="2104920"/>
            <a:ext cx="2109600" cy="2882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73800" y="1955880"/>
            <a:ext cx="0" cy="305280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3198960" y="1822320"/>
            <a:ext cx="3493800" cy="3197520"/>
            <a:chOff x="3198960" y="1822320"/>
            <a:chExt cx="3493800" cy="3197520"/>
          </a:xfrm>
        </p:grpSpPr>
        <p:sp>
          <p:nvSpPr>
            <p:cNvPr id="262" name=""/>
            <p:cNvSpPr/>
            <p:nvPr/>
          </p:nvSpPr>
          <p:spPr>
            <a:xfrm>
              <a:off x="3219480" y="1822320"/>
              <a:ext cx="0" cy="3194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98960" y="5019840"/>
              <a:ext cx="3493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 rot="16200000">
            <a:off x="755280" y="3255120"/>
            <a:ext cx="3407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e of interest, i (perc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91200" y="5462640"/>
            <a:ext cx="33332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ount of money deman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illions of dolla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5240" y="5073480"/>
            <a:ext cx="3860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     50     100     150    200    250   300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11440" y="1828800"/>
            <a:ext cx="46980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02520" y="4040280"/>
            <a:ext cx="6080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496840" y="3152880"/>
            <a:ext cx="39780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62280" y="1351080"/>
            <a:ext cx="550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120400" y="74520"/>
            <a:ext cx="6568560" cy="7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99"/>
                </a:solidFill>
                <a:latin typeface="Times New Roman"/>
              </a:rPr>
              <a:t>THE MONEY MARKE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98920" y="3508200"/>
            <a:ext cx="136800" cy="1368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795280" y="1819440"/>
            <a:ext cx="293364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uppose the 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upply is decr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rom $200 billion, S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o $150 billion S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m1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500"/>
                            </p:stCondLst>
                            <p:childTnLst>
                              <p:par>
                                <p:cTn id="4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30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4000"/>
                            </p:stCondLst>
                            <p:childTnLst>
                              <p:par>
                                <p:cTn id="4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450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500"/>
                            </p:stCondLst>
                            <p:childTnLst>
                              <p:par>
                                <p:cTn id="4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6000"/>
                            </p:stCondLst>
                            <p:childTnLst>
                              <p:par>
                                <p:cTn id="4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5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 flipH="1">
            <a:off x="3232080" y="3583080"/>
            <a:ext cx="22161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232080" y="2770200"/>
            <a:ext cx="1603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68960" y="2104920"/>
            <a:ext cx="2109600" cy="2882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73800" y="1955880"/>
            <a:ext cx="0" cy="305280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65760" y="1963800"/>
            <a:ext cx="0" cy="30528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16200000">
            <a:off x="755280" y="3255120"/>
            <a:ext cx="3407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e of interest, i (perc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91200" y="5462640"/>
            <a:ext cx="33332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ount of money deman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illions of dolla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5240" y="5073480"/>
            <a:ext cx="3860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     50     100     150    200    250   300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611440" y="1828800"/>
            <a:ext cx="46980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302520" y="4040280"/>
            <a:ext cx="6080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496840" y="3152880"/>
            <a:ext cx="39780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62280" y="1351080"/>
            <a:ext cx="550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79440" y="1895400"/>
            <a:ext cx="30481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 temporary </a:t>
            </a:r>
            <a:r>
              <a:rPr b="1" i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shor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of money will requ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he sale of some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o meet the n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08640" y="1338120"/>
            <a:ext cx="6537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4960800" y="2185920"/>
            <a:ext cx="387360" cy="42408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67200" y="4211640"/>
            <a:ext cx="590760" cy="227160"/>
          </a:xfrm>
          <a:custGeom>
            <a:avLst/>
            <a:gdLst/>
            <a:ahLst/>
            <a:rect l="l" t="t" r="r" b="b"/>
            <a:pathLst>
              <a:path w="372" h="143">
                <a:moveTo>
                  <a:pt x="70" y="94"/>
                </a:moveTo>
                <a:lnTo>
                  <a:pt x="63" y="94"/>
                </a:lnTo>
                <a:lnTo>
                  <a:pt x="56" y="92"/>
                </a:lnTo>
                <a:lnTo>
                  <a:pt x="49" y="90"/>
                </a:lnTo>
                <a:lnTo>
                  <a:pt x="42" y="86"/>
                </a:lnTo>
                <a:lnTo>
                  <a:pt x="36" y="82"/>
                </a:lnTo>
                <a:lnTo>
                  <a:pt x="30" y="77"/>
                </a:lnTo>
                <a:lnTo>
                  <a:pt x="25" y="71"/>
                </a:lnTo>
                <a:lnTo>
                  <a:pt x="19" y="65"/>
                </a:lnTo>
                <a:lnTo>
                  <a:pt x="15" y="57"/>
                </a:lnTo>
                <a:lnTo>
                  <a:pt x="11" y="50"/>
                </a:lnTo>
                <a:lnTo>
                  <a:pt x="7" y="41"/>
                </a:lnTo>
                <a:lnTo>
                  <a:pt x="4" y="33"/>
                </a:lnTo>
                <a:lnTo>
                  <a:pt x="3" y="23"/>
                </a:lnTo>
                <a:lnTo>
                  <a:pt x="1" y="14"/>
                </a:lnTo>
                <a:lnTo>
                  <a:pt x="0" y="5"/>
                </a:lnTo>
                <a:lnTo>
                  <a:pt x="0" y="0"/>
                </a:lnTo>
                <a:lnTo>
                  <a:pt x="0" y="8"/>
                </a:lnTo>
                <a:lnTo>
                  <a:pt x="1" y="15"/>
                </a:lnTo>
                <a:lnTo>
                  <a:pt x="3" y="23"/>
                </a:lnTo>
                <a:lnTo>
                  <a:pt x="6" y="31"/>
                </a:lnTo>
                <a:lnTo>
                  <a:pt x="9" y="37"/>
                </a:lnTo>
                <a:lnTo>
                  <a:pt x="12" y="44"/>
                </a:lnTo>
                <a:lnTo>
                  <a:pt x="17" y="49"/>
                </a:lnTo>
                <a:lnTo>
                  <a:pt x="21" y="54"/>
                </a:lnTo>
                <a:lnTo>
                  <a:pt x="26" y="59"/>
                </a:lnTo>
                <a:lnTo>
                  <a:pt x="32" y="62"/>
                </a:lnTo>
                <a:lnTo>
                  <a:pt x="37" y="64"/>
                </a:lnTo>
                <a:lnTo>
                  <a:pt x="43" y="66"/>
                </a:lnTo>
                <a:lnTo>
                  <a:pt x="48" y="66"/>
                </a:lnTo>
                <a:lnTo>
                  <a:pt x="143" y="66"/>
                </a:lnTo>
                <a:lnTo>
                  <a:pt x="149" y="67"/>
                </a:lnTo>
                <a:lnTo>
                  <a:pt x="154" y="69"/>
                </a:lnTo>
                <a:lnTo>
                  <a:pt x="159" y="71"/>
                </a:lnTo>
                <a:lnTo>
                  <a:pt x="164" y="74"/>
                </a:lnTo>
                <a:lnTo>
                  <a:pt x="169" y="78"/>
                </a:lnTo>
                <a:lnTo>
                  <a:pt x="173" y="83"/>
                </a:lnTo>
                <a:lnTo>
                  <a:pt x="177" y="89"/>
                </a:lnTo>
                <a:lnTo>
                  <a:pt x="180" y="94"/>
                </a:lnTo>
                <a:lnTo>
                  <a:pt x="182" y="101"/>
                </a:lnTo>
                <a:lnTo>
                  <a:pt x="184" y="108"/>
                </a:lnTo>
                <a:lnTo>
                  <a:pt x="185" y="116"/>
                </a:lnTo>
                <a:lnTo>
                  <a:pt x="185" y="123"/>
                </a:lnTo>
                <a:lnTo>
                  <a:pt x="186" y="116"/>
                </a:lnTo>
                <a:lnTo>
                  <a:pt x="187" y="108"/>
                </a:lnTo>
                <a:lnTo>
                  <a:pt x="189" y="101"/>
                </a:lnTo>
                <a:lnTo>
                  <a:pt x="191" y="94"/>
                </a:lnTo>
                <a:lnTo>
                  <a:pt x="194" y="89"/>
                </a:lnTo>
                <a:lnTo>
                  <a:pt x="198" y="83"/>
                </a:lnTo>
                <a:lnTo>
                  <a:pt x="202" y="78"/>
                </a:lnTo>
                <a:lnTo>
                  <a:pt x="207" y="74"/>
                </a:lnTo>
                <a:lnTo>
                  <a:pt x="211" y="71"/>
                </a:lnTo>
                <a:lnTo>
                  <a:pt x="216" y="69"/>
                </a:lnTo>
                <a:lnTo>
                  <a:pt x="222" y="67"/>
                </a:lnTo>
                <a:lnTo>
                  <a:pt x="228" y="66"/>
                </a:lnTo>
                <a:lnTo>
                  <a:pt x="323" y="66"/>
                </a:lnTo>
                <a:lnTo>
                  <a:pt x="328" y="66"/>
                </a:lnTo>
                <a:lnTo>
                  <a:pt x="334" y="64"/>
                </a:lnTo>
                <a:lnTo>
                  <a:pt x="339" y="62"/>
                </a:lnTo>
                <a:lnTo>
                  <a:pt x="345" y="59"/>
                </a:lnTo>
                <a:lnTo>
                  <a:pt x="350" y="54"/>
                </a:lnTo>
                <a:lnTo>
                  <a:pt x="354" y="49"/>
                </a:lnTo>
                <a:lnTo>
                  <a:pt x="358" y="44"/>
                </a:lnTo>
                <a:lnTo>
                  <a:pt x="362" y="37"/>
                </a:lnTo>
                <a:lnTo>
                  <a:pt x="365" y="31"/>
                </a:lnTo>
                <a:lnTo>
                  <a:pt x="368" y="23"/>
                </a:lnTo>
                <a:lnTo>
                  <a:pt x="369" y="15"/>
                </a:lnTo>
                <a:lnTo>
                  <a:pt x="371" y="8"/>
                </a:lnTo>
                <a:lnTo>
                  <a:pt x="371" y="0"/>
                </a:lnTo>
                <a:lnTo>
                  <a:pt x="371" y="5"/>
                </a:lnTo>
                <a:lnTo>
                  <a:pt x="370" y="14"/>
                </a:lnTo>
                <a:lnTo>
                  <a:pt x="369" y="23"/>
                </a:lnTo>
                <a:lnTo>
                  <a:pt x="366" y="33"/>
                </a:lnTo>
                <a:lnTo>
                  <a:pt x="364" y="41"/>
                </a:lnTo>
                <a:lnTo>
                  <a:pt x="360" y="50"/>
                </a:lnTo>
                <a:lnTo>
                  <a:pt x="356" y="57"/>
                </a:lnTo>
                <a:lnTo>
                  <a:pt x="351" y="65"/>
                </a:lnTo>
                <a:lnTo>
                  <a:pt x="346" y="71"/>
                </a:lnTo>
                <a:lnTo>
                  <a:pt x="341" y="77"/>
                </a:lnTo>
                <a:lnTo>
                  <a:pt x="335" y="82"/>
                </a:lnTo>
                <a:lnTo>
                  <a:pt x="329" y="86"/>
                </a:lnTo>
                <a:lnTo>
                  <a:pt x="322" y="90"/>
                </a:lnTo>
                <a:lnTo>
                  <a:pt x="315" y="92"/>
                </a:lnTo>
                <a:lnTo>
                  <a:pt x="308" y="94"/>
                </a:lnTo>
                <a:lnTo>
                  <a:pt x="301" y="94"/>
                </a:lnTo>
                <a:lnTo>
                  <a:pt x="221" y="94"/>
                </a:lnTo>
                <a:lnTo>
                  <a:pt x="215" y="95"/>
                </a:lnTo>
                <a:lnTo>
                  <a:pt x="210" y="97"/>
                </a:lnTo>
                <a:lnTo>
                  <a:pt x="206" y="98"/>
                </a:lnTo>
                <a:lnTo>
                  <a:pt x="202" y="102"/>
                </a:lnTo>
                <a:lnTo>
                  <a:pt x="198" y="106"/>
                </a:lnTo>
                <a:lnTo>
                  <a:pt x="194" y="111"/>
                </a:lnTo>
                <a:lnTo>
                  <a:pt x="191" y="116"/>
                </a:lnTo>
                <a:lnTo>
                  <a:pt x="189" y="122"/>
                </a:lnTo>
                <a:lnTo>
                  <a:pt x="187" y="128"/>
                </a:lnTo>
                <a:lnTo>
                  <a:pt x="186" y="136"/>
                </a:lnTo>
                <a:lnTo>
                  <a:pt x="186" y="142"/>
                </a:lnTo>
                <a:lnTo>
                  <a:pt x="185" y="136"/>
                </a:lnTo>
                <a:lnTo>
                  <a:pt x="184" y="130"/>
                </a:lnTo>
                <a:lnTo>
                  <a:pt x="183" y="123"/>
                </a:lnTo>
                <a:lnTo>
                  <a:pt x="180" y="117"/>
                </a:lnTo>
                <a:lnTo>
                  <a:pt x="177" y="111"/>
                </a:lnTo>
                <a:lnTo>
                  <a:pt x="174" y="106"/>
                </a:lnTo>
                <a:lnTo>
                  <a:pt x="170" y="102"/>
                </a:lnTo>
                <a:lnTo>
                  <a:pt x="166" y="99"/>
                </a:lnTo>
                <a:lnTo>
                  <a:pt x="161" y="97"/>
                </a:lnTo>
                <a:lnTo>
                  <a:pt x="156" y="95"/>
                </a:lnTo>
                <a:lnTo>
                  <a:pt x="151" y="94"/>
                </a:lnTo>
                <a:lnTo>
                  <a:pt x="70" y="94"/>
                </a:lnTo>
              </a:path>
            </a:pathLst>
          </a:custGeom>
          <a:solidFill>
            <a:srgbClr val="cc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5159520" y="3443400"/>
            <a:ext cx="2008080" cy="581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20400" y="74520"/>
            <a:ext cx="6568560" cy="7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99"/>
                </a:solidFill>
                <a:latin typeface="Times New Roman"/>
              </a:rPr>
              <a:t>THE MONEY MARKE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98920" y="3508200"/>
            <a:ext cx="136800" cy="1368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786200" y="2697120"/>
            <a:ext cx="136800" cy="1364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198960" y="1822320"/>
            <a:ext cx="3493800" cy="3197520"/>
            <a:chOff x="3198960" y="1822320"/>
            <a:chExt cx="3493800" cy="3197520"/>
          </a:xfrm>
        </p:grpSpPr>
        <p:sp>
          <p:nvSpPr>
            <p:cNvPr id="295" name=""/>
            <p:cNvSpPr/>
            <p:nvPr/>
          </p:nvSpPr>
          <p:spPr>
            <a:xfrm>
              <a:off x="3219480" y="1822320"/>
              <a:ext cx="0" cy="3194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98960" y="5019840"/>
              <a:ext cx="3493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2678040" y="2930400"/>
            <a:ext cx="389160" cy="514440"/>
          </a:xfrm>
          <a:prstGeom prst="upArrow">
            <a:avLst>
              <a:gd name="adj1" fmla="val 50000"/>
              <a:gd name="adj2" fmla="val 33048"/>
            </a:avLst>
          </a:prstGeom>
          <a:gradFill rotWithShape="0">
            <a:gsLst>
              <a:gs pos="0">
                <a:srgbClr val="ff9933"/>
              </a:gs>
              <a:gs pos="100000">
                <a:srgbClr val="ffff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500"/>
                            </p:stCondLst>
                            <p:childTnLst>
                              <p:par>
                                <p:cTn id="5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000"/>
                            </p:stCondLst>
                            <p:childTnLst>
                              <p:par>
                                <p:cTn id="5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H="1">
            <a:off x="3232080" y="3583080"/>
            <a:ext cx="22161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68960" y="2104920"/>
            <a:ext cx="2109600" cy="2882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73800" y="1955880"/>
            <a:ext cx="0" cy="305280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16200000">
            <a:off x="755280" y="3255120"/>
            <a:ext cx="3407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e of interest, i (perc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391200" y="5462640"/>
            <a:ext cx="33332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ount of money deman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illions of dolla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45240" y="5073480"/>
            <a:ext cx="3860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     50     100     150    200    250   300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11440" y="1828800"/>
            <a:ext cx="46980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302520" y="4040280"/>
            <a:ext cx="6080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96840" y="3152880"/>
            <a:ext cx="39780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462280" y="1351080"/>
            <a:ext cx="550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120400" y="74520"/>
            <a:ext cx="6568560" cy="7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99"/>
                </a:solidFill>
                <a:latin typeface="Times New Roman"/>
              </a:rPr>
              <a:t>THE MONEY MARKE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98920" y="3508200"/>
            <a:ext cx="136800" cy="1368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198960" y="1822320"/>
            <a:ext cx="3493800" cy="3197520"/>
            <a:chOff x="3198960" y="1822320"/>
            <a:chExt cx="3493800" cy="3197520"/>
          </a:xfrm>
        </p:grpSpPr>
        <p:sp>
          <p:nvSpPr>
            <p:cNvPr id="311" name=""/>
            <p:cNvSpPr/>
            <p:nvPr/>
          </p:nvSpPr>
          <p:spPr>
            <a:xfrm>
              <a:off x="3219480" y="1822320"/>
              <a:ext cx="0" cy="3194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98960" y="5019840"/>
              <a:ext cx="3493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6190560" y="1870200"/>
            <a:ext cx="293364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uppose the 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upply is incr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rom $200 billion, S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o $250 billion S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m2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783440" y="306360"/>
            <a:ext cx="726048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FUNCTIONS OF MONE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34920" y="1512720"/>
            <a:ext cx="7097040" cy="43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5600" spc="-1" strike="noStrike">
                <a:solidFill>
                  <a:srgbClr val="cc0000"/>
                </a:solidFill>
                <a:latin typeface="Times New Roman"/>
              </a:rPr>
              <a:t>Medium of Exchange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5600" spc="-1" strike="noStrike">
                <a:solidFill>
                  <a:srgbClr val="cc0000"/>
                </a:solidFill>
                <a:latin typeface="Times New Roman"/>
              </a:rPr>
              <a:t>Unit of Account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5600" spc="-1" strike="noStrike">
                <a:solidFill>
                  <a:srgbClr val="cc0000"/>
                </a:solidFill>
                <a:latin typeface="Times New Roman"/>
              </a:rPr>
              <a:t>Store of Value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 flipH="1">
            <a:off x="3232080" y="3583080"/>
            <a:ext cx="22161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3231720" y="4319640"/>
            <a:ext cx="27320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368960" y="2104920"/>
            <a:ext cx="2109600" cy="2882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473800" y="1955880"/>
            <a:ext cx="0" cy="305280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83200" y="1963800"/>
            <a:ext cx="0" cy="30528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755280" y="3255120"/>
            <a:ext cx="3407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e of interest, i (perc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91200" y="5462640"/>
            <a:ext cx="33332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ount of money deman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illions of dolla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45240" y="5073480"/>
            <a:ext cx="3860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     50     100     150    200    250   300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611440" y="1828800"/>
            <a:ext cx="46980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02520" y="4040280"/>
            <a:ext cx="6080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96840" y="3152880"/>
            <a:ext cx="39780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462280" y="1351080"/>
            <a:ext cx="550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32520" y="1338120"/>
            <a:ext cx="6537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532480" y="2185920"/>
            <a:ext cx="387360" cy="42408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ff9933"/>
              </a:gs>
              <a:gs pos="100000">
                <a:srgbClr val="ffff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20400" y="74520"/>
            <a:ext cx="6568560" cy="7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99"/>
                </a:solidFill>
                <a:latin typeface="Times New Roman"/>
              </a:rPr>
              <a:t>THE MONEY MARKE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398920" y="3508200"/>
            <a:ext cx="136800" cy="1368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911920" y="4248000"/>
            <a:ext cx="136440" cy="1368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198960" y="1822320"/>
            <a:ext cx="3493800" cy="3197520"/>
            <a:chOff x="3198960" y="1822320"/>
            <a:chExt cx="3493800" cy="3197520"/>
          </a:xfrm>
        </p:grpSpPr>
        <p:sp>
          <p:nvSpPr>
            <p:cNvPr id="332" name=""/>
            <p:cNvSpPr/>
            <p:nvPr/>
          </p:nvSpPr>
          <p:spPr>
            <a:xfrm>
              <a:off x="3219480" y="1822320"/>
              <a:ext cx="0" cy="3194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8960" y="5019840"/>
              <a:ext cx="3493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5494320" y="2728800"/>
            <a:ext cx="477720" cy="252360"/>
          </a:xfrm>
          <a:custGeom>
            <a:avLst/>
            <a:gdLst/>
            <a:ahLst/>
            <a:rect l="l" t="t" r="r" b="b"/>
            <a:pathLst>
              <a:path w="372" h="143">
                <a:moveTo>
                  <a:pt x="70" y="48"/>
                </a:moveTo>
                <a:lnTo>
                  <a:pt x="63" y="48"/>
                </a:lnTo>
                <a:lnTo>
                  <a:pt x="56" y="50"/>
                </a:lnTo>
                <a:lnTo>
                  <a:pt x="49" y="52"/>
                </a:lnTo>
                <a:lnTo>
                  <a:pt x="42" y="56"/>
                </a:lnTo>
                <a:lnTo>
                  <a:pt x="36" y="60"/>
                </a:lnTo>
                <a:lnTo>
                  <a:pt x="30" y="65"/>
                </a:lnTo>
                <a:lnTo>
                  <a:pt x="25" y="71"/>
                </a:lnTo>
                <a:lnTo>
                  <a:pt x="19" y="77"/>
                </a:lnTo>
                <a:lnTo>
                  <a:pt x="15" y="85"/>
                </a:lnTo>
                <a:lnTo>
                  <a:pt x="11" y="92"/>
                </a:lnTo>
                <a:lnTo>
                  <a:pt x="7" y="101"/>
                </a:lnTo>
                <a:lnTo>
                  <a:pt x="4" y="109"/>
                </a:lnTo>
                <a:lnTo>
                  <a:pt x="3" y="119"/>
                </a:lnTo>
                <a:lnTo>
                  <a:pt x="1" y="128"/>
                </a:lnTo>
                <a:lnTo>
                  <a:pt x="0" y="137"/>
                </a:lnTo>
                <a:lnTo>
                  <a:pt x="0" y="142"/>
                </a:lnTo>
                <a:lnTo>
                  <a:pt x="0" y="134"/>
                </a:lnTo>
                <a:lnTo>
                  <a:pt x="1" y="127"/>
                </a:lnTo>
                <a:lnTo>
                  <a:pt x="3" y="119"/>
                </a:lnTo>
                <a:lnTo>
                  <a:pt x="6" y="111"/>
                </a:lnTo>
                <a:lnTo>
                  <a:pt x="9" y="105"/>
                </a:lnTo>
                <a:lnTo>
                  <a:pt x="12" y="98"/>
                </a:lnTo>
                <a:lnTo>
                  <a:pt x="17" y="93"/>
                </a:lnTo>
                <a:lnTo>
                  <a:pt x="21" y="88"/>
                </a:lnTo>
                <a:lnTo>
                  <a:pt x="26" y="83"/>
                </a:lnTo>
                <a:lnTo>
                  <a:pt x="32" y="80"/>
                </a:lnTo>
                <a:lnTo>
                  <a:pt x="37" y="78"/>
                </a:lnTo>
                <a:lnTo>
                  <a:pt x="43" y="76"/>
                </a:lnTo>
                <a:lnTo>
                  <a:pt x="48" y="76"/>
                </a:lnTo>
                <a:lnTo>
                  <a:pt x="143" y="76"/>
                </a:lnTo>
                <a:lnTo>
                  <a:pt x="149" y="75"/>
                </a:lnTo>
                <a:lnTo>
                  <a:pt x="154" y="73"/>
                </a:lnTo>
                <a:lnTo>
                  <a:pt x="159" y="71"/>
                </a:lnTo>
                <a:lnTo>
                  <a:pt x="164" y="68"/>
                </a:lnTo>
                <a:lnTo>
                  <a:pt x="169" y="64"/>
                </a:lnTo>
                <a:lnTo>
                  <a:pt x="173" y="59"/>
                </a:lnTo>
                <a:lnTo>
                  <a:pt x="177" y="53"/>
                </a:lnTo>
                <a:lnTo>
                  <a:pt x="180" y="48"/>
                </a:lnTo>
                <a:lnTo>
                  <a:pt x="182" y="41"/>
                </a:lnTo>
                <a:lnTo>
                  <a:pt x="184" y="34"/>
                </a:lnTo>
                <a:lnTo>
                  <a:pt x="185" y="26"/>
                </a:lnTo>
                <a:lnTo>
                  <a:pt x="185" y="19"/>
                </a:lnTo>
                <a:lnTo>
                  <a:pt x="186" y="26"/>
                </a:lnTo>
                <a:lnTo>
                  <a:pt x="187" y="34"/>
                </a:lnTo>
                <a:lnTo>
                  <a:pt x="189" y="41"/>
                </a:lnTo>
                <a:lnTo>
                  <a:pt x="191" y="48"/>
                </a:lnTo>
                <a:lnTo>
                  <a:pt x="194" y="53"/>
                </a:lnTo>
                <a:lnTo>
                  <a:pt x="198" y="59"/>
                </a:lnTo>
                <a:lnTo>
                  <a:pt x="202" y="64"/>
                </a:lnTo>
                <a:lnTo>
                  <a:pt x="207" y="68"/>
                </a:lnTo>
                <a:lnTo>
                  <a:pt x="211" y="71"/>
                </a:lnTo>
                <a:lnTo>
                  <a:pt x="216" y="73"/>
                </a:lnTo>
                <a:lnTo>
                  <a:pt x="222" y="75"/>
                </a:lnTo>
                <a:lnTo>
                  <a:pt x="228" y="76"/>
                </a:lnTo>
                <a:lnTo>
                  <a:pt x="323" y="76"/>
                </a:lnTo>
                <a:lnTo>
                  <a:pt x="328" y="76"/>
                </a:lnTo>
                <a:lnTo>
                  <a:pt x="334" y="78"/>
                </a:lnTo>
                <a:lnTo>
                  <a:pt x="339" y="80"/>
                </a:lnTo>
                <a:lnTo>
                  <a:pt x="345" y="83"/>
                </a:lnTo>
                <a:lnTo>
                  <a:pt x="350" y="88"/>
                </a:lnTo>
                <a:lnTo>
                  <a:pt x="354" y="93"/>
                </a:lnTo>
                <a:lnTo>
                  <a:pt x="358" y="98"/>
                </a:lnTo>
                <a:lnTo>
                  <a:pt x="362" y="105"/>
                </a:lnTo>
                <a:lnTo>
                  <a:pt x="365" y="111"/>
                </a:lnTo>
                <a:lnTo>
                  <a:pt x="368" y="119"/>
                </a:lnTo>
                <a:lnTo>
                  <a:pt x="369" y="127"/>
                </a:lnTo>
                <a:lnTo>
                  <a:pt x="371" y="134"/>
                </a:lnTo>
                <a:lnTo>
                  <a:pt x="371" y="142"/>
                </a:lnTo>
                <a:lnTo>
                  <a:pt x="371" y="137"/>
                </a:lnTo>
                <a:lnTo>
                  <a:pt x="370" y="128"/>
                </a:lnTo>
                <a:lnTo>
                  <a:pt x="369" y="119"/>
                </a:lnTo>
                <a:lnTo>
                  <a:pt x="366" y="109"/>
                </a:lnTo>
                <a:lnTo>
                  <a:pt x="364" y="101"/>
                </a:lnTo>
                <a:lnTo>
                  <a:pt x="360" y="92"/>
                </a:lnTo>
                <a:lnTo>
                  <a:pt x="356" y="85"/>
                </a:lnTo>
                <a:lnTo>
                  <a:pt x="351" y="77"/>
                </a:lnTo>
                <a:lnTo>
                  <a:pt x="346" y="71"/>
                </a:lnTo>
                <a:lnTo>
                  <a:pt x="341" y="65"/>
                </a:lnTo>
                <a:lnTo>
                  <a:pt x="335" y="60"/>
                </a:lnTo>
                <a:lnTo>
                  <a:pt x="329" y="56"/>
                </a:lnTo>
                <a:lnTo>
                  <a:pt x="322" y="52"/>
                </a:lnTo>
                <a:lnTo>
                  <a:pt x="315" y="50"/>
                </a:lnTo>
                <a:lnTo>
                  <a:pt x="308" y="48"/>
                </a:lnTo>
                <a:lnTo>
                  <a:pt x="301" y="48"/>
                </a:lnTo>
                <a:lnTo>
                  <a:pt x="221" y="48"/>
                </a:lnTo>
                <a:lnTo>
                  <a:pt x="215" y="47"/>
                </a:lnTo>
                <a:lnTo>
                  <a:pt x="210" y="45"/>
                </a:lnTo>
                <a:lnTo>
                  <a:pt x="206" y="44"/>
                </a:lnTo>
                <a:lnTo>
                  <a:pt x="202" y="40"/>
                </a:lnTo>
                <a:lnTo>
                  <a:pt x="198" y="36"/>
                </a:lnTo>
                <a:lnTo>
                  <a:pt x="194" y="31"/>
                </a:lnTo>
                <a:lnTo>
                  <a:pt x="191" y="26"/>
                </a:lnTo>
                <a:lnTo>
                  <a:pt x="189" y="20"/>
                </a:lnTo>
                <a:lnTo>
                  <a:pt x="187" y="14"/>
                </a:lnTo>
                <a:lnTo>
                  <a:pt x="186" y="6"/>
                </a:lnTo>
                <a:lnTo>
                  <a:pt x="186" y="0"/>
                </a:lnTo>
                <a:lnTo>
                  <a:pt x="185" y="6"/>
                </a:lnTo>
                <a:lnTo>
                  <a:pt x="184" y="12"/>
                </a:lnTo>
                <a:lnTo>
                  <a:pt x="183" y="19"/>
                </a:lnTo>
                <a:lnTo>
                  <a:pt x="180" y="25"/>
                </a:lnTo>
                <a:lnTo>
                  <a:pt x="177" y="31"/>
                </a:lnTo>
                <a:lnTo>
                  <a:pt x="174" y="36"/>
                </a:lnTo>
                <a:lnTo>
                  <a:pt x="170" y="40"/>
                </a:lnTo>
                <a:lnTo>
                  <a:pt x="166" y="43"/>
                </a:lnTo>
                <a:lnTo>
                  <a:pt x="161" y="45"/>
                </a:lnTo>
                <a:lnTo>
                  <a:pt x="156" y="47"/>
                </a:lnTo>
                <a:lnTo>
                  <a:pt x="151" y="48"/>
                </a:lnTo>
                <a:lnTo>
                  <a:pt x="70" y="48"/>
                </a:lnTo>
              </a:path>
            </a:pathLst>
          </a:custGeom>
          <a:solidFill>
            <a:srgbClr val="cc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190200" y="1865160"/>
            <a:ext cx="2836080" cy="17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Times New Roman"/>
              </a:rPr>
              <a:t>A temporary </a:t>
            </a:r>
            <a:r>
              <a:rPr b="1" i="1" lang="en-US" sz="2200" spc="-1" strike="noStrike" u="sng">
                <a:solidFill>
                  <a:srgbClr val="000099"/>
                </a:solidFill>
                <a:uFillTx/>
                <a:latin typeface="Times New Roman"/>
              </a:rPr>
              <a:t>surpl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Times New Roman"/>
              </a:rPr>
              <a:t>of money will requ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Times New Roman"/>
              </a:rPr>
              <a:t>the purchase of s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Times New Roman"/>
              </a:rPr>
              <a:t>assets to meet the de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Times New Roman"/>
              </a:rPr>
              <a:t>sired level of liquidit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560560" y="3606840"/>
            <a:ext cx="1389240" cy="52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03520" y="3708360"/>
            <a:ext cx="552600" cy="5126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2500"/>
                            </p:stCondLst>
                            <p:childTnLst>
                              <p:par>
                                <p:cTn id="5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3000"/>
                            </p:stCondLst>
                            <p:childTnLst>
                              <p:par>
                                <p:cTn id="5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 flipH="1">
            <a:off x="3232080" y="3583080"/>
            <a:ext cx="22161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3231720" y="4319640"/>
            <a:ext cx="27320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68960" y="2104920"/>
            <a:ext cx="2109600" cy="2882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3800" y="1955880"/>
            <a:ext cx="0" cy="305280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83200" y="1963800"/>
            <a:ext cx="0" cy="30528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16200000">
            <a:off x="755280" y="3255120"/>
            <a:ext cx="3407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e of interest, i (perc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91200" y="5462640"/>
            <a:ext cx="33332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ount of money deman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illions of dolla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5240" y="5073480"/>
            <a:ext cx="3860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     50     100     150    200    250   300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11440" y="1828800"/>
            <a:ext cx="46980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302520" y="4040280"/>
            <a:ext cx="6080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96840" y="3152880"/>
            <a:ext cx="39780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62280" y="1351080"/>
            <a:ext cx="550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032520" y="1338120"/>
            <a:ext cx="6537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532480" y="2185920"/>
            <a:ext cx="387360" cy="42408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ff9933"/>
              </a:gs>
              <a:gs pos="100000">
                <a:srgbClr val="ffff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20400" y="74520"/>
            <a:ext cx="6568560" cy="7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99"/>
                </a:solidFill>
                <a:latin typeface="Times New Roman"/>
              </a:rPr>
              <a:t>THE MONEY MARKE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398920" y="3508200"/>
            <a:ext cx="136800" cy="1368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911920" y="4248000"/>
            <a:ext cx="136440" cy="1368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3198960" y="1822320"/>
            <a:ext cx="3493800" cy="3197520"/>
            <a:chOff x="3198960" y="1822320"/>
            <a:chExt cx="3493800" cy="3197520"/>
          </a:xfrm>
        </p:grpSpPr>
        <p:sp>
          <p:nvSpPr>
            <p:cNvPr id="356" name=""/>
            <p:cNvSpPr/>
            <p:nvPr/>
          </p:nvSpPr>
          <p:spPr>
            <a:xfrm>
              <a:off x="3219480" y="1822320"/>
              <a:ext cx="0" cy="3194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198960" y="5019840"/>
              <a:ext cx="3493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5494320" y="2728800"/>
            <a:ext cx="477720" cy="252360"/>
          </a:xfrm>
          <a:custGeom>
            <a:avLst/>
            <a:gdLst/>
            <a:ahLst/>
            <a:rect l="l" t="t" r="r" b="b"/>
            <a:pathLst>
              <a:path w="372" h="143">
                <a:moveTo>
                  <a:pt x="70" y="48"/>
                </a:moveTo>
                <a:lnTo>
                  <a:pt x="63" y="48"/>
                </a:lnTo>
                <a:lnTo>
                  <a:pt x="56" y="50"/>
                </a:lnTo>
                <a:lnTo>
                  <a:pt x="49" y="52"/>
                </a:lnTo>
                <a:lnTo>
                  <a:pt x="42" y="56"/>
                </a:lnTo>
                <a:lnTo>
                  <a:pt x="36" y="60"/>
                </a:lnTo>
                <a:lnTo>
                  <a:pt x="30" y="65"/>
                </a:lnTo>
                <a:lnTo>
                  <a:pt x="25" y="71"/>
                </a:lnTo>
                <a:lnTo>
                  <a:pt x="19" y="77"/>
                </a:lnTo>
                <a:lnTo>
                  <a:pt x="15" y="85"/>
                </a:lnTo>
                <a:lnTo>
                  <a:pt x="11" y="92"/>
                </a:lnTo>
                <a:lnTo>
                  <a:pt x="7" y="101"/>
                </a:lnTo>
                <a:lnTo>
                  <a:pt x="4" y="109"/>
                </a:lnTo>
                <a:lnTo>
                  <a:pt x="3" y="119"/>
                </a:lnTo>
                <a:lnTo>
                  <a:pt x="1" y="128"/>
                </a:lnTo>
                <a:lnTo>
                  <a:pt x="0" y="137"/>
                </a:lnTo>
                <a:lnTo>
                  <a:pt x="0" y="142"/>
                </a:lnTo>
                <a:lnTo>
                  <a:pt x="0" y="134"/>
                </a:lnTo>
                <a:lnTo>
                  <a:pt x="1" y="127"/>
                </a:lnTo>
                <a:lnTo>
                  <a:pt x="3" y="119"/>
                </a:lnTo>
                <a:lnTo>
                  <a:pt x="6" y="111"/>
                </a:lnTo>
                <a:lnTo>
                  <a:pt x="9" y="105"/>
                </a:lnTo>
                <a:lnTo>
                  <a:pt x="12" y="98"/>
                </a:lnTo>
                <a:lnTo>
                  <a:pt x="17" y="93"/>
                </a:lnTo>
                <a:lnTo>
                  <a:pt x="21" y="88"/>
                </a:lnTo>
                <a:lnTo>
                  <a:pt x="26" y="83"/>
                </a:lnTo>
                <a:lnTo>
                  <a:pt x="32" y="80"/>
                </a:lnTo>
                <a:lnTo>
                  <a:pt x="37" y="78"/>
                </a:lnTo>
                <a:lnTo>
                  <a:pt x="43" y="76"/>
                </a:lnTo>
                <a:lnTo>
                  <a:pt x="48" y="76"/>
                </a:lnTo>
                <a:lnTo>
                  <a:pt x="143" y="76"/>
                </a:lnTo>
                <a:lnTo>
                  <a:pt x="149" y="75"/>
                </a:lnTo>
                <a:lnTo>
                  <a:pt x="154" y="73"/>
                </a:lnTo>
                <a:lnTo>
                  <a:pt x="159" y="71"/>
                </a:lnTo>
                <a:lnTo>
                  <a:pt x="164" y="68"/>
                </a:lnTo>
                <a:lnTo>
                  <a:pt x="169" y="64"/>
                </a:lnTo>
                <a:lnTo>
                  <a:pt x="173" y="59"/>
                </a:lnTo>
                <a:lnTo>
                  <a:pt x="177" y="53"/>
                </a:lnTo>
                <a:lnTo>
                  <a:pt x="180" y="48"/>
                </a:lnTo>
                <a:lnTo>
                  <a:pt x="182" y="41"/>
                </a:lnTo>
                <a:lnTo>
                  <a:pt x="184" y="34"/>
                </a:lnTo>
                <a:lnTo>
                  <a:pt x="185" y="26"/>
                </a:lnTo>
                <a:lnTo>
                  <a:pt x="185" y="19"/>
                </a:lnTo>
                <a:lnTo>
                  <a:pt x="186" y="26"/>
                </a:lnTo>
                <a:lnTo>
                  <a:pt x="187" y="34"/>
                </a:lnTo>
                <a:lnTo>
                  <a:pt x="189" y="41"/>
                </a:lnTo>
                <a:lnTo>
                  <a:pt x="191" y="48"/>
                </a:lnTo>
                <a:lnTo>
                  <a:pt x="194" y="53"/>
                </a:lnTo>
                <a:lnTo>
                  <a:pt x="198" y="59"/>
                </a:lnTo>
                <a:lnTo>
                  <a:pt x="202" y="64"/>
                </a:lnTo>
                <a:lnTo>
                  <a:pt x="207" y="68"/>
                </a:lnTo>
                <a:lnTo>
                  <a:pt x="211" y="71"/>
                </a:lnTo>
                <a:lnTo>
                  <a:pt x="216" y="73"/>
                </a:lnTo>
                <a:lnTo>
                  <a:pt x="222" y="75"/>
                </a:lnTo>
                <a:lnTo>
                  <a:pt x="228" y="76"/>
                </a:lnTo>
                <a:lnTo>
                  <a:pt x="323" y="76"/>
                </a:lnTo>
                <a:lnTo>
                  <a:pt x="328" y="76"/>
                </a:lnTo>
                <a:lnTo>
                  <a:pt x="334" y="78"/>
                </a:lnTo>
                <a:lnTo>
                  <a:pt x="339" y="80"/>
                </a:lnTo>
                <a:lnTo>
                  <a:pt x="345" y="83"/>
                </a:lnTo>
                <a:lnTo>
                  <a:pt x="350" y="88"/>
                </a:lnTo>
                <a:lnTo>
                  <a:pt x="354" y="93"/>
                </a:lnTo>
                <a:lnTo>
                  <a:pt x="358" y="98"/>
                </a:lnTo>
                <a:lnTo>
                  <a:pt x="362" y="105"/>
                </a:lnTo>
                <a:lnTo>
                  <a:pt x="365" y="111"/>
                </a:lnTo>
                <a:lnTo>
                  <a:pt x="368" y="119"/>
                </a:lnTo>
                <a:lnTo>
                  <a:pt x="369" y="127"/>
                </a:lnTo>
                <a:lnTo>
                  <a:pt x="371" y="134"/>
                </a:lnTo>
                <a:lnTo>
                  <a:pt x="371" y="142"/>
                </a:lnTo>
                <a:lnTo>
                  <a:pt x="371" y="137"/>
                </a:lnTo>
                <a:lnTo>
                  <a:pt x="370" y="128"/>
                </a:lnTo>
                <a:lnTo>
                  <a:pt x="369" y="119"/>
                </a:lnTo>
                <a:lnTo>
                  <a:pt x="366" y="109"/>
                </a:lnTo>
                <a:lnTo>
                  <a:pt x="364" y="101"/>
                </a:lnTo>
                <a:lnTo>
                  <a:pt x="360" y="92"/>
                </a:lnTo>
                <a:lnTo>
                  <a:pt x="356" y="85"/>
                </a:lnTo>
                <a:lnTo>
                  <a:pt x="351" y="77"/>
                </a:lnTo>
                <a:lnTo>
                  <a:pt x="346" y="71"/>
                </a:lnTo>
                <a:lnTo>
                  <a:pt x="341" y="65"/>
                </a:lnTo>
                <a:lnTo>
                  <a:pt x="335" y="60"/>
                </a:lnTo>
                <a:lnTo>
                  <a:pt x="329" y="56"/>
                </a:lnTo>
                <a:lnTo>
                  <a:pt x="322" y="52"/>
                </a:lnTo>
                <a:lnTo>
                  <a:pt x="315" y="50"/>
                </a:lnTo>
                <a:lnTo>
                  <a:pt x="308" y="48"/>
                </a:lnTo>
                <a:lnTo>
                  <a:pt x="301" y="48"/>
                </a:lnTo>
                <a:lnTo>
                  <a:pt x="221" y="48"/>
                </a:lnTo>
                <a:lnTo>
                  <a:pt x="215" y="47"/>
                </a:lnTo>
                <a:lnTo>
                  <a:pt x="210" y="45"/>
                </a:lnTo>
                <a:lnTo>
                  <a:pt x="206" y="44"/>
                </a:lnTo>
                <a:lnTo>
                  <a:pt x="202" y="40"/>
                </a:lnTo>
                <a:lnTo>
                  <a:pt x="198" y="36"/>
                </a:lnTo>
                <a:lnTo>
                  <a:pt x="194" y="31"/>
                </a:lnTo>
                <a:lnTo>
                  <a:pt x="191" y="26"/>
                </a:lnTo>
                <a:lnTo>
                  <a:pt x="189" y="20"/>
                </a:lnTo>
                <a:lnTo>
                  <a:pt x="187" y="14"/>
                </a:lnTo>
                <a:lnTo>
                  <a:pt x="186" y="6"/>
                </a:lnTo>
                <a:lnTo>
                  <a:pt x="186" y="0"/>
                </a:lnTo>
                <a:lnTo>
                  <a:pt x="185" y="6"/>
                </a:lnTo>
                <a:lnTo>
                  <a:pt x="184" y="12"/>
                </a:lnTo>
                <a:lnTo>
                  <a:pt x="183" y="19"/>
                </a:lnTo>
                <a:lnTo>
                  <a:pt x="180" y="25"/>
                </a:lnTo>
                <a:lnTo>
                  <a:pt x="177" y="31"/>
                </a:lnTo>
                <a:lnTo>
                  <a:pt x="174" y="36"/>
                </a:lnTo>
                <a:lnTo>
                  <a:pt x="170" y="40"/>
                </a:lnTo>
                <a:lnTo>
                  <a:pt x="166" y="43"/>
                </a:lnTo>
                <a:lnTo>
                  <a:pt x="161" y="45"/>
                </a:lnTo>
                <a:lnTo>
                  <a:pt x="156" y="47"/>
                </a:lnTo>
                <a:lnTo>
                  <a:pt x="151" y="48"/>
                </a:lnTo>
                <a:lnTo>
                  <a:pt x="70" y="48"/>
                </a:lnTo>
              </a:path>
            </a:pathLst>
          </a:custGeom>
          <a:solidFill>
            <a:srgbClr val="cc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190200" y="1865160"/>
            <a:ext cx="2836080" cy="17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Times New Roman"/>
              </a:rPr>
              <a:t>A temporary </a:t>
            </a:r>
            <a:r>
              <a:rPr b="1" i="1" lang="en-US" sz="2200" spc="-1" strike="noStrike" u="sng">
                <a:solidFill>
                  <a:srgbClr val="000099"/>
                </a:solidFill>
                <a:uFillTx/>
                <a:latin typeface="Times New Roman"/>
              </a:rPr>
              <a:t>surpl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Times New Roman"/>
              </a:rPr>
              <a:t>of money will requ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Times New Roman"/>
              </a:rPr>
              <a:t>the purchase of s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Times New Roman"/>
              </a:rPr>
              <a:t>assets to meet the de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Times New Roman"/>
              </a:rPr>
              <a:t>sired level of liquidit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5560560" y="3606840"/>
            <a:ext cx="1389240" cy="52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603520" y="3708360"/>
            <a:ext cx="552600" cy="5126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84520" y="528480"/>
            <a:ext cx="6789600" cy="618660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onds are assu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s a typical asset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ower prices associ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ith hig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terest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751040" y="1193760"/>
            <a:ext cx="72313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entralization and Public Contro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847880" y="1833480"/>
            <a:ext cx="7086600" cy="47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Board of Governo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Assistance &amp; Ad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Federal Open Market Committee </a:t>
            </a: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(FOMC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The 12 Federal Reserve Bank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Central Bank Ro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Quasi-Public Bank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Banker’s Bank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Commercial Banks &amp; Thrif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800360" y="49320"/>
            <a:ext cx="731664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</a:rPr>
              <a:t>THE FEDERAL RESERVE AND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</a:rPr>
              <a:t>THE BANKING SYSTEM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800360" y="49320"/>
            <a:ext cx="731664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</a:rPr>
              <a:t>THE FEDERAL RESERVE AND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</a:rPr>
              <a:t>THE BANKING SYSTEM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78280" y="1316160"/>
            <a:ext cx="195156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d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98920" y="2168640"/>
            <a:ext cx="0" cy="199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763800" y="2355840"/>
            <a:ext cx="0" cy="30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763800" y="3295800"/>
            <a:ext cx="0" cy="38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763800" y="4799160"/>
            <a:ext cx="0" cy="110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751200" y="5900760"/>
            <a:ext cx="777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3755880" y="2368440"/>
            <a:ext cx="3559320" cy="0"/>
            <a:chOff x="3755880" y="2368440"/>
            <a:chExt cx="3559320" cy="0"/>
          </a:xfrm>
        </p:grpSpPr>
        <p:sp>
          <p:nvSpPr>
            <p:cNvPr id="374" name=""/>
            <p:cNvSpPr/>
            <p:nvPr/>
          </p:nvSpPr>
          <p:spPr>
            <a:xfrm flipH="1">
              <a:off x="3755880" y="2368440"/>
              <a:ext cx="161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398920" y="2368440"/>
              <a:ext cx="19162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7294680" y="2368440"/>
            <a:ext cx="0" cy="13161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122800" y="2957400"/>
            <a:ext cx="21668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294680" y="4799160"/>
            <a:ext cx="0" cy="10508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6356160" y="5877000"/>
            <a:ext cx="927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008600" y="1839960"/>
            <a:ext cx="501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25920" y="1514520"/>
            <a:ext cx="1816200" cy="65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vern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405160" y="2647800"/>
            <a:ext cx="2717640" cy="65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 Fed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erve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405160" y="3689280"/>
            <a:ext cx="2717640" cy="1114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935680" y="3689280"/>
            <a:ext cx="2717640" cy="1114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ift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(Savings &amp; loan associations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utual savings banks, credi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union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14760" y="5327640"/>
            <a:ext cx="1841760" cy="1114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(Households an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usinesses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500"/>
                            </p:stCondLst>
                            <p:childTnLst>
                              <p:par>
                                <p:cTn id="6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2500"/>
                            </p:stCondLst>
                            <p:childTnLst>
                              <p:par>
                                <p:cTn id="6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3000"/>
                            </p:stCondLst>
                            <p:childTnLst>
                              <p:par>
                                <p:cTn id="6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000"/>
                            </p:stCondLst>
                            <p:childTnLst>
                              <p:par>
                                <p:cTn id="7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718280" y="104760"/>
            <a:ext cx="7422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FED Functions &amp; the Money Suppl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57240" y="673200"/>
            <a:ext cx="7116840" cy="58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03200" indent="-403200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Times New Roman"/>
              </a:rPr>
              <a:t>Issuing Currenc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Times New Roman"/>
              </a:rPr>
              <a:t>Setting Reserve Requirements &amp; Holding Reserv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Times New Roman"/>
              </a:rPr>
              <a:t>Lending Money to Banks &amp; Thrift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768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cc0000"/>
                </a:solidFill>
                <a:latin typeface="Times New Roman"/>
              </a:rPr>
              <a:t>Discount Rat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Times New Roman"/>
              </a:rPr>
              <a:t>Providing for Check Collec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Times New Roman"/>
              </a:rPr>
              <a:t>Acting as Fiscal Age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Times New Roman"/>
              </a:rPr>
              <a:t>Supervising Bank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Times New Roman"/>
              </a:rPr>
              <a:t>Controlling the Money Suppl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718280" y="104760"/>
            <a:ext cx="7422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FED Functions &amp; the Money Suppl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747800" y="666720"/>
            <a:ext cx="7226280" cy="58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03200" indent="-403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Times New Roman"/>
              </a:rPr>
              <a:t>Federal Reserve Independenc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Times New Roman"/>
              </a:rPr>
              <a:t>Recent Developme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166680">
              <a:lnSpc>
                <a:spcPct val="9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Relative Decline of Banks and Thrif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166680">
              <a:lnSpc>
                <a:spcPct val="9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Financial Services Industr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166680">
              <a:lnSpc>
                <a:spcPct val="9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Consolidation Among Banks and Thrif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166680">
              <a:lnSpc>
                <a:spcPct val="9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Convergence of Services Provided by Financial Institu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166680">
              <a:lnSpc>
                <a:spcPct val="9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Globalization of Financial Marke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166680">
              <a:lnSpc>
                <a:spcPct val="9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Electronic Transac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2540160" y="76320"/>
            <a:ext cx="405756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2b2b2"/>
                    </a:gs>
                    <a:gs pos="50000">
                      <a:srgbClr val="ffffff"/>
                    </a:gs>
                    <a:gs pos="100000">
                      <a:srgbClr val="b2b2b2"/>
                    </a:gs>
                  </a:gsLst>
                  <a:lin ang="8100000"/>
                </a:gradFill>
                <a:latin typeface="Impact"/>
              </a:rPr>
              <a:t>KEY TERMS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2b2b2"/>
                  </a:gs>
                  <a:gs pos="50000">
                    <a:srgbClr val="ffffff"/>
                  </a:gs>
                  <a:gs pos="100000">
                    <a:srgbClr val="b2b2b2"/>
                  </a:gs>
                </a:gsLst>
                <a:lin ang="8100000"/>
              </a:gradFill>
              <a:latin typeface="Impact"/>
              <a:ea typeface="Impact"/>
            </a:endParaRPr>
          </a:p>
        </p:txBody>
      </p:sp>
      <p:sp>
        <p:nvSpPr>
          <p:cNvPr id="391" name="">
            <a:hlinkClick r:id="" action="ppaction://hlinkshowjump?jump=endshow"/>
          </p:cNvPr>
          <p:cNvSpPr/>
          <p:nvPr/>
        </p:nvSpPr>
        <p:spPr>
          <a:xfrm>
            <a:off x="8188200" y="6545160"/>
            <a:ext cx="7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>
            <a:hlinkClick r:id="" action="ppaction://hlinkshowjump?jump=previousslide"/>
          </p:cNvPr>
          <p:cNvSpPr/>
          <p:nvPr/>
        </p:nvSpPr>
        <p:spPr>
          <a:xfrm>
            <a:off x="7577280" y="6566040"/>
            <a:ext cx="384120" cy="228600"/>
          </a:xfrm>
          <a:custGeom>
            <a:avLst/>
            <a:gdLst>
              <a:gd name="textAreaLeft" fmla="*/ 14760 w 384120"/>
              <a:gd name="textAreaRight" fmla="*/ 369360 w 384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6272" h="21600">
                <a:moveTo>
                  <a:pt x="0" y="0"/>
                </a:moveTo>
                <a:lnTo>
                  <a:pt x="36272" y="0"/>
                </a:lnTo>
                <a:lnTo>
                  <a:pt x="36272" y="21600"/>
                </a:lnTo>
                <a:lnTo>
                  <a:pt x="0" y="21600"/>
                </a:lnTo>
                <a:close/>
              </a:path>
              <a:path fill="lightenLess" w="36272" h="21600">
                <a:moveTo>
                  <a:pt x="0" y="0"/>
                </a:moveTo>
                <a:lnTo>
                  <a:pt x="36272" y="0"/>
                </a:lnTo>
                <a:lnTo>
                  <a:pt x="34872" y="1400"/>
                </a:lnTo>
                <a:lnTo>
                  <a:pt x="1400" y="1400"/>
                </a:lnTo>
                <a:close/>
              </a:path>
              <a:path fill="darken" w="36272" h="21600">
                <a:moveTo>
                  <a:pt x="36272" y="0"/>
                </a:moveTo>
                <a:lnTo>
                  <a:pt x="36272" y="21600"/>
                </a:lnTo>
                <a:lnTo>
                  <a:pt x="34872" y="20200"/>
                </a:lnTo>
                <a:lnTo>
                  <a:pt x="34872" y="1400"/>
                </a:lnTo>
                <a:close/>
              </a:path>
              <a:path fill="darkenLess" w="36272" h="21600">
                <a:moveTo>
                  <a:pt x="36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72" y="20200"/>
                </a:lnTo>
                <a:close/>
              </a:path>
              <a:path fill="lighten" w="36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72" h="21600">
                <a:moveTo>
                  <a:pt x="11129" y="10800"/>
                </a:moveTo>
                <a:lnTo>
                  <a:pt x="25142" y="3794"/>
                </a:lnTo>
                <a:lnTo>
                  <a:pt x="25142" y="17806"/>
                </a:lnTo>
                <a:close/>
              </a:path>
            </a:pathLst>
          </a:custGeom>
          <a:solidFill>
            <a:srgbClr val="cc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>
            <a:hlinkClick r:id="" action="ppaction://hlinkshowjump?jump=previousslide"/>
          </p:cNvPr>
          <p:cNvSpPr/>
          <p:nvPr/>
        </p:nvSpPr>
        <p:spPr>
          <a:xfrm>
            <a:off x="6929280" y="6545160"/>
            <a:ext cx="7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>
            <a:hlinkClick r:id="" action="ppaction://hlinkshowjump?jump=endshow"/>
          </p:cNvPr>
          <p:cNvSpPr/>
          <p:nvPr/>
        </p:nvSpPr>
        <p:spPr>
          <a:xfrm>
            <a:off x="7997760" y="6566040"/>
            <a:ext cx="366840" cy="230040"/>
          </a:xfrm>
          <a:custGeom>
            <a:avLst/>
            <a:gdLst>
              <a:gd name="textAreaLeft" fmla="*/ 14760 w 366840"/>
              <a:gd name="textAreaRight" fmla="*/ 352080 w 366840"/>
              <a:gd name="textAreaTop" fmla="*/ 14760 h 230040"/>
              <a:gd name="textAreaBottom" fmla="*/ 215280 h 230040"/>
            </a:gdLst>
            <a:ahLst/>
            <a:rect l="textAreaLeft" t="textAreaTop" r="textAreaRight" b="textAreaBottom"/>
            <a:pathLst>
              <a:path w="34425" h="21600">
                <a:moveTo>
                  <a:pt x="0" y="0"/>
                </a:moveTo>
                <a:lnTo>
                  <a:pt x="34425" y="0"/>
                </a:lnTo>
                <a:lnTo>
                  <a:pt x="34425" y="21600"/>
                </a:lnTo>
                <a:lnTo>
                  <a:pt x="0" y="21600"/>
                </a:lnTo>
                <a:close/>
              </a:path>
              <a:path fill="lightenLess" w="34425" h="21600">
                <a:moveTo>
                  <a:pt x="0" y="0"/>
                </a:moveTo>
                <a:lnTo>
                  <a:pt x="34425" y="0"/>
                </a:lnTo>
                <a:lnTo>
                  <a:pt x="33025" y="1400"/>
                </a:lnTo>
                <a:lnTo>
                  <a:pt x="1400" y="1400"/>
                </a:lnTo>
                <a:close/>
              </a:path>
              <a:path fill="darken" w="34425" h="21600">
                <a:moveTo>
                  <a:pt x="34425" y="0"/>
                </a:moveTo>
                <a:lnTo>
                  <a:pt x="34425" y="21600"/>
                </a:lnTo>
                <a:lnTo>
                  <a:pt x="33025" y="20200"/>
                </a:lnTo>
                <a:lnTo>
                  <a:pt x="33025" y="1400"/>
                </a:lnTo>
                <a:close/>
              </a:path>
              <a:path fill="darkenLess" w="34425" h="21600">
                <a:moveTo>
                  <a:pt x="344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25" y="20200"/>
                </a:lnTo>
                <a:close/>
              </a:path>
              <a:path fill="lighten" w="344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25" h="21600">
                <a:moveTo>
                  <a:pt x="10206" y="3794"/>
                </a:moveTo>
                <a:lnTo>
                  <a:pt x="24219" y="10800"/>
                </a:lnTo>
                <a:lnTo>
                  <a:pt x="10206" y="17806"/>
                </a:lnTo>
                <a:close/>
              </a:path>
            </a:pathLst>
          </a:custGeom>
          <a:solidFill>
            <a:srgbClr val="cc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-360" y="533160"/>
            <a:ext cx="4476600" cy="56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medium of exchange</a:t>
            </a:r>
            <a:endParaRPr b="0" lang="en-US" sz="2600" spc="-1" strike="noStrike">
              <a:solidFill>
                <a:srgbClr val="cc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unit of account</a:t>
            </a:r>
            <a:endParaRPr b="0" lang="en-US" sz="2600" spc="-1" strike="noStrike">
              <a:solidFill>
                <a:srgbClr val="cc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store of value</a:t>
            </a:r>
            <a:endParaRPr b="0" lang="en-US" sz="2600" spc="-1" strike="noStrike">
              <a:solidFill>
                <a:srgbClr val="cc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M1, M2, M3</a:t>
            </a:r>
            <a:endParaRPr b="0" lang="en-US" sz="2600" spc="-1" strike="noStrike">
              <a:solidFill>
                <a:srgbClr val="cc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token money</a:t>
            </a:r>
            <a:endParaRPr b="0" lang="en-US" sz="2600" spc="-1" strike="noStrike">
              <a:solidFill>
                <a:srgbClr val="cc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Federal Reserve Notes</a:t>
            </a:r>
            <a:endParaRPr b="0" lang="en-US" sz="2600" spc="-1" strike="noStrike">
              <a:solidFill>
                <a:srgbClr val="cc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checkable deposits</a:t>
            </a:r>
            <a:endParaRPr b="0" lang="en-US" sz="2600" spc="-1" strike="noStrike">
              <a:solidFill>
                <a:srgbClr val="cc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commercial banks</a:t>
            </a:r>
            <a:endParaRPr b="0" lang="en-US" sz="2600" spc="-1" strike="noStrike">
              <a:solidFill>
                <a:srgbClr val="cc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thrift institutions</a:t>
            </a:r>
            <a:endParaRPr b="0" lang="en-US" sz="2600" spc="-1" strike="noStrike">
              <a:solidFill>
                <a:srgbClr val="cc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near-monies</a:t>
            </a:r>
            <a:endParaRPr b="0" lang="en-US" sz="2600" spc="-1" strike="noStrike">
              <a:solidFill>
                <a:srgbClr val="cc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savings account</a:t>
            </a:r>
            <a:endParaRPr b="0" lang="en-US" sz="2600" spc="-1" strike="noStrike">
              <a:solidFill>
                <a:srgbClr val="cc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money market deposit account (MMDA)</a:t>
            </a:r>
            <a:endParaRPr b="0" lang="en-US" sz="2600" spc="-1" strike="noStrike">
              <a:solidFill>
                <a:srgbClr val="cc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imes New Roman"/>
                <a:hlinkClick r:id="rId13" action="ppaction://hlinksldjump"/>
              </a:rPr>
              <a:t>time deposits</a:t>
            </a:r>
            <a:endParaRPr b="0" lang="en-US" sz="2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10160" y="533160"/>
            <a:ext cx="4533840" cy="59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money market mutual fund (MMMF)</a:t>
            </a:r>
            <a:endParaRPr b="0" lang="en-US" sz="26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imes New Roman"/>
                <a:hlinkClick r:id="rId15" action="ppaction://hlinksldjump"/>
              </a:rPr>
              <a:t>legal tender</a:t>
            </a:r>
            <a:endParaRPr b="0" lang="en-US" sz="26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transactions demand</a:t>
            </a:r>
            <a:endParaRPr b="0" lang="en-US" sz="26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asset demand</a:t>
            </a:r>
            <a:endParaRPr b="0" lang="en-US" sz="26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total demand for money</a:t>
            </a:r>
            <a:endParaRPr b="0" lang="en-US" sz="26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money market</a:t>
            </a:r>
            <a:endParaRPr b="0" lang="en-US" sz="26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Federal Reserve System</a:t>
            </a:r>
            <a:endParaRPr b="0" lang="en-US" sz="26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Board of Governors</a:t>
            </a:r>
            <a:endParaRPr b="0" lang="en-US" sz="26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Federal Open Market Committee (FOMC)</a:t>
            </a:r>
            <a:endParaRPr b="0" lang="en-US" sz="26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Federal Reserve Banks</a:t>
            </a:r>
            <a:endParaRPr b="0" lang="en-US" sz="26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financial services industry</a:t>
            </a:r>
            <a:endParaRPr b="0" lang="en-US" sz="26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electronic transactions</a:t>
            </a:r>
            <a:endParaRPr b="0" lang="en-US" sz="2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93600" y="6556320"/>
            <a:ext cx="3302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Copyright McGraw-Hill/Irwin, Inc. 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0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2189160" y="954000"/>
            <a:ext cx="625968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How Banks and Thrifts Create Mone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53240" y="5557680"/>
            <a:ext cx="27493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hapter 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311840" y="106200"/>
            <a:ext cx="65044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rush Script MT"/>
              </a:rPr>
              <a:t>Coming up next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3144960" y="2475000"/>
            <a:ext cx="2855880" cy="414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0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500"/>
                            </p:stCondLst>
                            <p:childTnLst>
                              <p:par>
                                <p:cTn id="8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1500"/>
                            </p:stCondLst>
                            <p:childTnLst>
                              <p:par>
                                <p:cTn id="8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55280" y="84240"/>
            <a:ext cx="5649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MONEY SUPPL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943280" y="927000"/>
            <a:ext cx="1028520" cy="10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4" name=""/>
          <p:cNvSpPr/>
          <p:nvPr/>
        </p:nvSpPr>
        <p:spPr>
          <a:xfrm>
            <a:off x="1717560" y="2152800"/>
            <a:ext cx="57294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Curren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Token M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Federal Reserve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Little Intrinsic Val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22600" y="4603680"/>
            <a:ext cx="49996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Checkable Depos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Commercial Ban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Thrift Instit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16680" y="1020600"/>
            <a:ext cx="3362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Definition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55280" y="84240"/>
            <a:ext cx="5649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MONEY SUPPL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936800" y="934920"/>
            <a:ext cx="1028520" cy="10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070520" y="1020600"/>
            <a:ext cx="93312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0" name=""/>
          <p:cNvSpPr/>
          <p:nvPr/>
        </p:nvSpPr>
        <p:spPr>
          <a:xfrm>
            <a:off x="3141720" y="811080"/>
            <a:ext cx="759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Times New Roman"/>
              </a:rPr>
              <a:t>=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98040" y="1042920"/>
            <a:ext cx="270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Brush Script MT"/>
              </a:rPr>
              <a:t>Plus.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38160" y="2044800"/>
            <a:ext cx="70725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Near-mon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Savings Depos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Money Market Deposit Accounts (MMDA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Smaller Time Depos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Money Market Mutual Funds (MMMF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55280" y="84240"/>
            <a:ext cx="5649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MONEY SUPPL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070520" y="1020600"/>
            <a:ext cx="93312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5" name=""/>
          <p:cNvSpPr/>
          <p:nvPr/>
        </p:nvSpPr>
        <p:spPr>
          <a:xfrm>
            <a:off x="3141720" y="811080"/>
            <a:ext cx="759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Times New Roman"/>
              </a:rPr>
              <a:t>=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98040" y="1042920"/>
            <a:ext cx="270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Brush Script MT"/>
              </a:rPr>
              <a:t>Plus.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38160" y="2527200"/>
            <a:ext cx="707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Large Time Depos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981080" y="920880"/>
            <a:ext cx="1028880" cy="10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9" name=""/>
          <p:cNvSpPr/>
          <p:nvPr/>
        </p:nvSpPr>
        <p:spPr>
          <a:xfrm>
            <a:off x="3759480" y="4538520"/>
            <a:ext cx="38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Illustrated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828080" y="977760"/>
            <a:ext cx="4848120" cy="15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urrency</a:t>
            </a:r>
            <a:r>
              <a:rPr b="1" lang="en-US" sz="26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coins &amp; paper money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heckable deposi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qual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M1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50000" y="1176480"/>
            <a:ext cx="550800" cy="16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72240" y="723960"/>
            <a:ext cx="7315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418520" y="723960"/>
            <a:ext cx="7315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163000" y="723960"/>
            <a:ext cx="7315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39480" y="2787480"/>
            <a:ext cx="821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12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08520" y="5837400"/>
            <a:ext cx="2234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03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billions of dolla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55280" y="84240"/>
            <a:ext cx="5649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MONEY SUPPL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750000" y="1176480"/>
            <a:ext cx="550800" cy="16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89800" y="1176480"/>
            <a:ext cx="550800" cy="4170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72240" y="723960"/>
            <a:ext cx="7315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418520" y="723960"/>
            <a:ext cx="7315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163000" y="723960"/>
            <a:ext cx="7315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39480" y="2787480"/>
            <a:ext cx="821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12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08520" y="5837400"/>
            <a:ext cx="2234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03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billions of dolla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64880" y="5411880"/>
            <a:ext cx="821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58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55280" y="84240"/>
            <a:ext cx="5649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MONEY SUPPL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0880" y="977760"/>
            <a:ext cx="5016600" cy="48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urrency</a:t>
            </a:r>
            <a:r>
              <a:rPr b="1" lang="en-US" sz="26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coins &amp; paper money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heckable deposi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qual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M1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us </a:t>
            </a:r>
            <a:r>
              <a:rPr b="1" lang="en-US" sz="2700" spc="-1" strike="noStrike">
                <a:solidFill>
                  <a:srgbClr val="cc0000"/>
                </a:solidFill>
                <a:latin typeface="Times New Roman"/>
              </a:rPr>
              <a:t>Savings deposits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cluding MMDA’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lus 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Small time deposi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lus 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Money market mutual fu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           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(MMMF) balances</a:t>
            </a:r>
            <a:r>
              <a:rPr b="1" lang="en-US" sz="26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quals 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M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750000" y="1176480"/>
            <a:ext cx="550800" cy="16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89800" y="1176480"/>
            <a:ext cx="550800" cy="4170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226360" y="1176480"/>
            <a:ext cx="550800" cy="4960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72240" y="723960"/>
            <a:ext cx="7315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18520" y="723960"/>
            <a:ext cx="7315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63000" y="723960"/>
            <a:ext cx="7315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39480" y="2787480"/>
            <a:ext cx="821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12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08520" y="5837400"/>
            <a:ext cx="2234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03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billions of dolla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64880" y="5411880"/>
            <a:ext cx="821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58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123760" y="6224760"/>
            <a:ext cx="821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85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55280" y="84240"/>
            <a:ext cx="5649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MONEY SUPPL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0880" y="977760"/>
            <a:ext cx="5016600" cy="59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Currency (coins &amp; paper money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us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Checkable deposi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qual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M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us </a:t>
            </a:r>
            <a:r>
              <a:rPr b="1" lang="en-US" sz="2700" spc="-1" strike="noStrike">
                <a:solidFill>
                  <a:srgbClr val="ffffff"/>
                </a:solidFill>
                <a:latin typeface="Times New Roman"/>
              </a:rPr>
              <a:t>Savings deposits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including MMDA’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plus Small time deposi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plus Money market mutual fu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(MMMF) balanc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equal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M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lus 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Large time deposi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qual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M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0880" y="977760"/>
            <a:ext cx="5016600" cy="48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urrency</a:t>
            </a:r>
            <a:r>
              <a:rPr b="1" lang="en-US" sz="26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coins &amp; paper money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heckable deposi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qual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M1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us </a:t>
            </a:r>
            <a:r>
              <a:rPr b="1" lang="en-US" sz="2700" spc="-1" strike="noStrike">
                <a:solidFill>
                  <a:srgbClr val="cc0000"/>
                </a:solidFill>
                <a:latin typeface="Times New Roman"/>
              </a:rPr>
              <a:t>Savings deposits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cluding MMDA’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lus 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Small time deposi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lus 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Money market mutual fu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           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(MMMF) balances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quals 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M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778400" y="306360"/>
            <a:ext cx="7184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WHAT ABOUT CREDIT CARD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998720" y="733320"/>
            <a:ext cx="6955200" cy="5688000"/>
            <a:chOff x="1998720" y="733320"/>
            <a:chExt cx="6955200" cy="568800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 rot="2745600">
              <a:off x="5817240" y="1434240"/>
              <a:ext cx="2826000" cy="205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 rot="1555200">
              <a:off x="4425480" y="2205000"/>
              <a:ext cx="2917800" cy="21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3"/>
            <a:stretch/>
          </p:blipFill>
          <p:spPr>
            <a:xfrm rot="893400">
              <a:off x="3165480" y="3365280"/>
              <a:ext cx="2863800" cy="199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4"/>
            <a:stretch/>
          </p:blipFill>
          <p:spPr>
            <a:xfrm>
              <a:off x="1998720" y="4448160"/>
              <a:ext cx="2670120" cy="1973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4-05T10:13:18Z</dcterms:created>
  <dc:creator>NORMAN HOLLINGSWORTH</dc:creator>
  <dc:description>Copyright McGraw-Hill/Irwin, Inc.  2005</dc:description>
  <dc:language>en-US</dc:language>
  <cp:lastModifiedBy>MHE</cp:lastModifiedBy>
  <cp:lastPrinted>1995-04-05T19:18:22Z</cp:lastPrinted>
  <dcterms:modified xsi:type="dcterms:W3CDTF">2003-11-25T17:41:08Z</dcterms:modified>
  <cp:revision>120</cp:revision>
  <dc:subject>McConnell-Brue 16/e</dc:subject>
  <dc:title>Chapter 13 Money &amp; Banking</dc:title>
</cp:coreProperties>
</file>